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gif" ContentType="image/gif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wmf" ContentType="image/x-wmf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8325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1440" y="3686040"/>
            <a:ext cx="8325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61440" y="368604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27080" y="368604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76280" y="101916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1480" y="101916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61440" y="368604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76280" y="368604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1480" y="368604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61440" y="1019160"/>
            <a:ext cx="8325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8325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61440" y="368604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61440" y="1019160"/>
            <a:ext cx="8325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27080" y="368604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1440" y="3686040"/>
            <a:ext cx="8325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8325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1440" y="3686040"/>
            <a:ext cx="8325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1440" y="368604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27080" y="368604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76280" y="101916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91480" y="101916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61440" y="368604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76280" y="368604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91480" y="368604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8325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61440" y="368604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27080" y="368604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61440" y="3686040"/>
            <a:ext cx="8325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8f00"/>
                </a:solidFill>
                <a:latin typeface="Humanst521 Cn BT"/>
              </a:rPr>
              <a:t>Click to edit the title text format</a:t>
            </a: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1440" y="1019160"/>
            <a:ext cx="8325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ff00"/>
              </a:buClr>
              <a:buSzPct val="8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08f00"/>
                </a:solidFill>
                <a:latin typeface="Humanst521 Cn BT"/>
              </a:rPr>
              <a:t>Click to edit the outline text format</a:t>
            </a: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  <a:p>
            <a:pPr lvl="1" marL="743040" indent="-285840">
              <a:buClr>
                <a:srgbClr val="fd59d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08f00"/>
                </a:solidFill>
                <a:latin typeface="Humanst521 Cn BT"/>
              </a:rPr>
              <a:t>Second Outline Level</a:t>
            </a: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  <a:p>
            <a:pPr lvl="2" marL="1143000" indent="-228600"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08f00"/>
                </a:solidFill>
                <a:latin typeface="Humanst521 Cn BT"/>
              </a:rPr>
              <a:t>Third Outline Level</a:t>
            </a: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  <a:p>
            <a:pPr lvl="3" marL="1600200" indent="-228600">
              <a:buClr>
                <a:srgbClr val="f08f00"/>
              </a:buClr>
              <a:buFont typeface="Humanst521 Cn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08f00"/>
                </a:solidFill>
                <a:latin typeface="Humanst521 Cn BT"/>
              </a:rPr>
              <a:t>Fourth Outline Level</a:t>
            </a: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  <a:p>
            <a:pPr lvl="4" marL="2057400" indent="-228600"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08f00"/>
                </a:solidFill>
                <a:latin typeface="Humanst521 Cn BT"/>
              </a:rPr>
              <a:t>Fifth Outline Level</a:t>
            </a: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  <a:p>
            <a:pPr lvl="5" marL="2057400" indent="-228600"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08f00"/>
                </a:solidFill>
                <a:latin typeface="Humanst521 Cn BT"/>
              </a:rPr>
              <a:t>Sixth Outline Level</a:t>
            </a: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  <a:p>
            <a:pPr lvl="6" marL="2057400" indent="-228600"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08f00"/>
                </a:solidFill>
                <a:latin typeface="Humanst521 Cn BT"/>
              </a:rPr>
              <a:t>Seventh Outline Level</a:t>
            </a: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83320"/>
            <a:ext cx="472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EFD4-B853-45D9-BAB3-1B8186D43EAA}" type="slidenum">
              <a:rPr b="1" lang="en-US" sz="1200" spc="-1" strike="noStrike">
                <a:solidFill>
                  <a:srgbClr val="3333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 - ABERT/SET – DIGITAL TV – FUTURE APPLICATION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8f00"/>
                </a:solidFill>
                <a:latin typeface="Humanst521 Cn BT"/>
              </a:rPr>
              <a:t>Click to edit the title text format</a:t>
            </a: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40" name=""/>
          <p:cNvSpPr/>
          <p:nvPr/>
        </p:nvSpPr>
        <p:spPr>
          <a:xfrm>
            <a:off x="0" y="6583320"/>
            <a:ext cx="487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13BB-48FD-43CA-961B-F3B8F542EF28}" type="slidenum">
              <a:rPr b="1" lang="en-US" sz="1200" spc="-1" strike="noStrike">
                <a:solidFill>
                  <a:srgbClr val="3333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 - ABERT/SET – DIGITAL TV – FUTURE APPLICATION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08f00"/>
                </a:solidFill>
                <a:latin typeface="Humanst521 Cn BT"/>
              </a:rPr>
              <a:t>Click to edit the outline text format</a:t>
            </a: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8f00"/>
                </a:solidFill>
                <a:latin typeface="Humanst521 Cn BT"/>
              </a:rPr>
              <a:t>Second Outline Level</a:t>
            </a:r>
            <a:endParaRPr b="1" lang="en-US" sz="3200" spc="-1" strike="noStrike">
              <a:solidFill>
                <a:srgbClr val="f08f00"/>
              </a:solidFill>
              <a:latin typeface="Humanst521 Cn BT"/>
            </a:endParaRPr>
          </a:p>
          <a:p>
            <a:pPr lvl="2" marL="914400" algn="ctr"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8f00"/>
                </a:solidFill>
                <a:latin typeface="Humanst521 Cn BT"/>
              </a:rPr>
              <a:t>Third Outline Level</a:t>
            </a:r>
            <a:endParaRPr b="1" lang="en-US" sz="2800" spc="-1" strike="noStrike">
              <a:solidFill>
                <a:srgbClr val="f08f00"/>
              </a:solidFill>
              <a:latin typeface="Humanst521 Cn BT"/>
            </a:endParaRPr>
          </a:p>
          <a:p>
            <a:pPr lvl="3" marL="1371600" algn="ctr">
              <a:buClr>
                <a:srgbClr val="f08f00"/>
              </a:buClr>
              <a:buFont typeface="Humanst521 Cn B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8f00"/>
                </a:solidFill>
                <a:latin typeface="Humanst521 Cn BT"/>
              </a:rPr>
              <a:t>Fourth Outline Level</a:t>
            </a:r>
            <a:endParaRPr b="1" lang="en-US" sz="2000" spc="-1" strike="noStrike">
              <a:solidFill>
                <a:srgbClr val="f08f00"/>
              </a:solidFill>
              <a:latin typeface="Humanst521 Cn BT"/>
            </a:endParaRPr>
          </a:p>
          <a:p>
            <a:pPr lvl="4" marL="1828800" algn="ctr"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8f00"/>
                </a:solidFill>
                <a:latin typeface="Humanst521 Cn BT"/>
              </a:rPr>
              <a:t>Fifth Outline Level</a:t>
            </a:r>
            <a:endParaRPr b="1" lang="en-US" sz="2000" spc="-1" strike="noStrike">
              <a:solidFill>
                <a:srgbClr val="f08f00"/>
              </a:solidFill>
              <a:latin typeface="Humanst521 Cn BT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8f00"/>
                </a:solidFill>
                <a:latin typeface="Humanst521 Cn BT"/>
              </a:rPr>
              <a:t>Sixth Outline Level</a:t>
            </a:r>
            <a:endParaRPr b="1" lang="en-US" sz="2000" spc="-1" strike="noStrike">
              <a:solidFill>
                <a:srgbClr val="f08f00"/>
              </a:solidFill>
              <a:latin typeface="Humanst521 Cn BT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8f00"/>
                </a:solidFill>
                <a:latin typeface="Humanst521 Cn BT"/>
              </a:rPr>
              <a:t>Seventh Outline Level</a:t>
            </a:r>
            <a:endParaRPr b="1" lang="en-US" sz="20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97180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1111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9900"/>
                </a:solidFill>
                <a:latin typeface="Tempus Sans ITC"/>
              </a:rPr>
              <a:t>ABERT/SET Grou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9900"/>
                </a:solidFill>
                <a:latin typeface="Tempus Sans ITC"/>
              </a:rPr>
              <a:t>Seminar “Multimedia in the 21</a:t>
            </a:r>
            <a:r>
              <a:rPr b="1" lang="pt-BR" sz="4000" spc="-1" strike="noStrike" baseline="30000">
                <a:solidFill>
                  <a:srgbClr val="ff9900"/>
                </a:solidFill>
                <a:latin typeface="Tempus Sans ITC"/>
              </a:rPr>
              <a:t>st</a:t>
            </a:r>
            <a:r>
              <a:rPr b="1" lang="pt-BR" sz="4000" spc="-1" strike="noStrike">
                <a:solidFill>
                  <a:srgbClr val="ff9900"/>
                </a:solidFill>
                <a:latin typeface="Tempus Sans ITC"/>
              </a:rPr>
              <a:t> Century”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9900"/>
                </a:solidFill>
                <a:latin typeface="Tempus Sans ITC"/>
              </a:rPr>
              <a:t>June/200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705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Tempus Sans ITC"/>
              </a:rPr>
              <a:t> </a:t>
            </a:r>
            <a:r>
              <a:rPr b="1" lang="en-US" sz="7200" spc="-1" strike="noStrike">
                <a:solidFill>
                  <a:srgbClr val="ff9900"/>
                </a:solidFill>
                <a:latin typeface="Tempus Sans ITC"/>
              </a:rPr>
              <a:t>Digital TV 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ff9900"/>
                </a:solidFill>
                <a:latin typeface="Tempus Sans ITC"/>
              </a:rPr>
              <a:t>Business Model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0" name="bar_anm" descr=""/>
          <p:cNvPicPr/>
          <p:nvPr/>
        </p:nvPicPr>
        <p:blipFill>
          <a:blip r:embed="rId2"/>
          <a:stretch/>
        </p:blipFill>
        <p:spPr>
          <a:xfrm flipH="1" rot="10800000">
            <a:off x="1428840" y="2818800"/>
            <a:ext cx="6286320" cy="42840"/>
          </a:xfrm>
          <a:prstGeom prst="rect">
            <a:avLst/>
          </a:prstGeom>
          <a:ln w="0">
            <a:noFill/>
          </a:ln>
        </p:spPr>
      </p:pic>
      <p:pic>
        <p:nvPicPr>
          <p:cNvPr id="81" name="bar_anm" descr=""/>
          <p:cNvPicPr/>
          <p:nvPr/>
        </p:nvPicPr>
        <p:blipFill>
          <a:blip r:embed="rId3"/>
          <a:stretch/>
        </p:blipFill>
        <p:spPr>
          <a:xfrm flipH="1" rot="10800000">
            <a:off x="1424160" y="5049000"/>
            <a:ext cx="6286320" cy="42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7672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457440" y="5505480"/>
            <a:ext cx="790560" cy="8380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17204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set%20novo%20sem%20nome" descr=""/>
          <p:cNvPicPr/>
          <p:nvPr/>
        </p:nvPicPr>
        <p:blipFill>
          <a:blip r:embed="rId5"/>
          <a:stretch/>
        </p:blipFill>
        <p:spPr>
          <a:xfrm>
            <a:off x="4672080" y="5497560"/>
            <a:ext cx="1100160" cy="8460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204920" y="3638520"/>
            <a:ext cx="111744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ultimedia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6" name="hdcam" descr=""/>
          <p:cNvPicPr/>
          <p:nvPr/>
        </p:nvPicPr>
        <p:blipFill>
          <a:blip r:embed="rId2"/>
          <a:stretch/>
        </p:blipFill>
        <p:spPr>
          <a:xfrm>
            <a:off x="1332000" y="2287440"/>
            <a:ext cx="990360" cy="627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49320" y="2987640"/>
            <a:ext cx="0" cy="405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368928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82960" y="144612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87920" y="1585800"/>
            <a:ext cx="136440" cy="13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69280" y="56386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13040" y="581652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69280" y="28828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LECOM /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26000" y="307656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70400" y="3132000"/>
            <a:ext cx="685800" cy="8748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72200" y="3295800"/>
            <a:ext cx="6858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048360" y="277812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821040" y="444672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ELLULA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62480" y="4603680"/>
            <a:ext cx="644760" cy="745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14920" y="4567320"/>
            <a:ext cx="136440" cy="136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94440" y="5845320"/>
            <a:ext cx="76176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188680" y="5997600"/>
            <a:ext cx="76212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257800" y="4756320"/>
            <a:ext cx="644400" cy="745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6062760" y="5527800"/>
            <a:ext cx="1555560" cy="871560"/>
          </a:xfrm>
          <a:prstGeom prst="rect">
            <a:avLst/>
          </a:prstGeom>
          <a:ln w="0">
            <a:noFill/>
          </a:ln>
        </p:spPr>
      </p:pic>
      <p:pic>
        <p:nvPicPr>
          <p:cNvPr id="235" name="bemain" descr=""/>
          <p:cNvPicPr/>
          <p:nvPr/>
        </p:nvPicPr>
        <p:blipFill>
          <a:blip r:embed="rId5"/>
          <a:stretch/>
        </p:blipFill>
        <p:spPr>
          <a:xfrm>
            <a:off x="7542360" y="1380960"/>
            <a:ext cx="100476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8589960" y="1244520"/>
          <a:ext cx="541440" cy="80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89960" y="1244520"/>
                    <a:ext cx="54144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WAP" descr=""/>
          <p:cNvPicPr/>
          <p:nvPr/>
        </p:nvPicPr>
        <p:blipFill>
          <a:blip r:embed="rId8"/>
          <a:stretch/>
        </p:blipFill>
        <p:spPr>
          <a:xfrm>
            <a:off x="6012000" y="4309920"/>
            <a:ext cx="1255680" cy="739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9"/>
          <a:stretch/>
        </p:blipFill>
        <p:spPr>
          <a:xfrm>
            <a:off x="6288120" y="4481640"/>
            <a:ext cx="631800" cy="3664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 flipH="1">
            <a:off x="5317560" y="1893960"/>
            <a:ext cx="59508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1665360"/>
            <a:ext cx="5760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0"/>
          <a:stretch/>
        </p:blipFill>
        <p:spPr>
          <a:xfrm>
            <a:off x="5958000" y="1216080"/>
            <a:ext cx="1555560" cy="871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826800" y="149400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TERRESTRIA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74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Future </a:t>
            </a:r>
            <a:r>
              <a:rPr b="1" lang="pt-BR" sz="4800" spc="-1" strike="noStrike">
                <a:solidFill>
                  <a:srgbClr val="ff9900"/>
                </a:solidFill>
                <a:latin typeface="Tempus Sans ITC"/>
              </a:rPr>
              <a:t>Scenario</a:t>
            </a: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 – Digital TV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26200" y="819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Tempus Sans ITC"/>
              </a:rPr>
              <a:t>fixe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82240" y="98424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Tempus Sans ITC"/>
              </a:rPr>
              <a:t>mobil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95160" y="2089080"/>
            <a:ext cx="130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Tempus Sans ITC"/>
              </a:rPr>
              <a:t>Port/pe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762120"/>
            <a:ext cx="7086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WAP" descr=""/>
          <p:cNvPicPr/>
          <p:nvPr/>
        </p:nvPicPr>
        <p:blipFill>
          <a:blip r:embed="rId2"/>
          <a:stretch/>
        </p:blipFill>
        <p:spPr>
          <a:xfrm>
            <a:off x="2343240" y="2209680"/>
            <a:ext cx="4209840" cy="1943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-263160" y="120600"/>
            <a:ext cx="470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00"/>
                </a:solidFill>
                <a:latin typeface="Tempus Sans ITC"/>
              </a:rPr>
              <a:t>Convergence mod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3344760" y="3011400"/>
            <a:ext cx="633600" cy="6159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3968640" y="2671920"/>
            <a:ext cx="1170000" cy="974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3344760" y="2671920"/>
            <a:ext cx="293760" cy="339480"/>
          </a:xfrm>
          <a:prstGeom prst="rect">
            <a:avLst/>
          </a:prstGeom>
          <a:ln w="0">
            <a:noFill/>
          </a:ln>
        </p:spPr>
      </p:pic>
      <p:pic>
        <p:nvPicPr>
          <p:cNvPr id="254" name="set%20novo%20sem%20nome" descr=""/>
          <p:cNvPicPr/>
          <p:nvPr/>
        </p:nvPicPr>
        <p:blipFill>
          <a:blip r:embed="rId6"/>
          <a:stretch/>
        </p:blipFill>
        <p:spPr>
          <a:xfrm>
            <a:off x="3638520" y="2662200"/>
            <a:ext cx="330120" cy="34920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303480" y="1174680"/>
            <a:ext cx="3854160" cy="5454720"/>
            <a:chOff x="303480" y="1174680"/>
            <a:chExt cx="3854160" cy="5454720"/>
          </a:xfrm>
        </p:grpSpPr>
        <p:grpSp>
          <p:nvGrpSpPr>
            <p:cNvPr id="256" name=""/>
            <p:cNvGrpSpPr/>
            <p:nvPr/>
          </p:nvGrpSpPr>
          <p:grpSpPr>
            <a:xfrm>
              <a:off x="303480" y="1447920"/>
              <a:ext cx="1526400" cy="3024000"/>
              <a:chOff x="303480" y="1447920"/>
              <a:chExt cx="1526400" cy="302400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852480" y="1447920"/>
                <a:ext cx="704880" cy="1969920"/>
                <a:chOff x="852480" y="1447920"/>
                <a:chExt cx="704880" cy="196992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336680" y="3072600"/>
                  <a:ext cx="220320" cy="345240"/>
                </a:xfrm>
                <a:custGeom>
                  <a:avLst/>
                  <a:gdLst/>
                  <a:ahLst/>
                  <a:rect l="l" t="t" r="r" b="b"/>
                  <a:pathLst>
                    <a:path w="235" h="385">
                      <a:moveTo>
                        <a:pt x="0" y="384"/>
                      </a:moveTo>
                      <a:lnTo>
                        <a:pt x="6" y="246"/>
                      </a:lnTo>
                      <a:lnTo>
                        <a:pt x="234" y="0"/>
                      </a:lnTo>
                      <a:lnTo>
                        <a:pt x="234" y="108"/>
                      </a:lnTo>
                      <a:lnTo>
                        <a:pt x="0" y="384"/>
                      </a:lnTo>
                    </a:path>
                  </a:pathLst>
                </a:custGeom>
                <a:gradFill rotWithShape="0">
                  <a:gsLst>
                    <a:gs pos="0">
                      <a:srgbClr val="dadada"/>
                    </a:gs>
                    <a:gs pos="100000">
                      <a:srgbClr val="00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57880" y="3072600"/>
                  <a:ext cx="699480" cy="329040"/>
                </a:xfrm>
                <a:custGeom>
                  <a:avLst/>
                  <a:gdLst/>
                  <a:ahLst/>
                  <a:rect l="l" t="t" r="r" b="b"/>
                  <a:pathLst>
                    <a:path w="745" h="367">
                      <a:moveTo>
                        <a:pt x="0" y="246"/>
                      </a:moveTo>
                      <a:lnTo>
                        <a:pt x="270" y="0"/>
                      </a:lnTo>
                      <a:lnTo>
                        <a:pt x="744" y="0"/>
                      </a:lnTo>
                      <a:lnTo>
                        <a:pt x="516" y="240"/>
                      </a:lnTo>
                      <a:lnTo>
                        <a:pt x="468" y="366"/>
                      </a:lnTo>
                      <a:lnTo>
                        <a:pt x="78" y="312"/>
                      </a:lnTo>
                    </a:path>
                  </a:pathLst>
                </a:custGeom>
                <a:gradFill rotWithShape="0">
                  <a:gsLst>
                    <a:gs pos="0">
                      <a:srgbClr val="1c1c1c"/>
                    </a:gs>
                    <a:gs pos="100000">
                      <a:srgbClr val="91919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" name=""/>
                <p:cNvGrpSpPr/>
                <p:nvPr/>
              </p:nvGrpSpPr>
              <p:grpSpPr>
                <a:xfrm>
                  <a:off x="1108800" y="2137320"/>
                  <a:ext cx="365400" cy="878400"/>
                  <a:chOff x="1108800" y="2137320"/>
                  <a:chExt cx="365400" cy="878400"/>
                </a:xfrm>
              </p:grpSpPr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1108800" y="2818080"/>
                    <a:ext cx="365400" cy="197640"/>
                    <a:chOff x="1108800" y="2818080"/>
                    <a:chExt cx="365400" cy="197640"/>
                  </a:xfrm>
                </p:grpSpPr>
                <p:grpSp>
                  <p:nvGrpSpPr>
                    <p:cNvPr id="262" name=""/>
                    <p:cNvGrpSpPr/>
                    <p:nvPr/>
                  </p:nvGrpSpPr>
                  <p:grpSpPr>
                    <a:xfrm>
                      <a:off x="1119960" y="2818080"/>
                      <a:ext cx="354240" cy="197640"/>
                      <a:chOff x="1119960" y="2818080"/>
                      <a:chExt cx="354240" cy="197640"/>
                    </a:xfrm>
                  </p:grpSpPr>
                  <p:sp>
                    <p:nvSpPr>
                      <p:cNvPr id="263" name=""/>
                      <p:cNvSpPr/>
                      <p:nvPr/>
                    </p:nvSpPr>
                    <p:spPr>
                      <a:xfrm rot="1620000">
                        <a:off x="1102680" y="2910600"/>
                        <a:ext cx="38880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 rot="1620000">
                        <a:off x="1117080" y="2899080"/>
                        <a:ext cx="36252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5" name=""/>
                    <p:cNvGrpSpPr/>
                    <p:nvPr/>
                  </p:nvGrpSpPr>
                  <p:grpSpPr>
                    <a:xfrm>
                      <a:off x="1108800" y="2825640"/>
                      <a:ext cx="339480" cy="186840"/>
                      <a:chOff x="1108800" y="2825640"/>
                      <a:chExt cx="339480" cy="186840"/>
                    </a:xfrm>
                  </p:grpSpPr>
                  <p:sp>
                    <p:nvSpPr>
                      <p:cNvPr id="266" name=""/>
                      <p:cNvSpPr/>
                      <p:nvPr/>
                    </p:nvSpPr>
                    <p:spPr>
                      <a:xfrm rot="19980000">
                        <a:off x="1091520" y="2914200"/>
                        <a:ext cx="37368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 rot="19980000">
                        <a:off x="1103040" y="2903760"/>
                        <a:ext cx="34812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1138320" y="2520360"/>
                    <a:ext cx="279720" cy="156600"/>
                    <a:chOff x="1138320" y="2520360"/>
                    <a:chExt cx="279720" cy="156600"/>
                  </a:xfrm>
                </p:grpSpPr>
                <p:grpSp>
                  <p:nvGrpSpPr>
                    <p:cNvPr id="269" name=""/>
                    <p:cNvGrpSpPr/>
                    <p:nvPr/>
                  </p:nvGrpSpPr>
                  <p:grpSpPr>
                    <a:xfrm>
                      <a:off x="1146600" y="2520360"/>
                      <a:ext cx="271440" cy="156600"/>
                      <a:chOff x="1146600" y="2520360"/>
                      <a:chExt cx="271440" cy="156600"/>
                    </a:xfrm>
                  </p:grpSpPr>
                  <p:sp>
                    <p:nvSpPr>
                      <p:cNvPr id="270" name=""/>
                      <p:cNvSpPr/>
                      <p:nvPr/>
                    </p:nvSpPr>
                    <p:spPr>
                      <a:xfrm rot="1620000">
                        <a:off x="1134360" y="2593080"/>
                        <a:ext cx="29556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 rot="1620000">
                        <a:off x="1144440" y="2581920"/>
                        <a:ext cx="27612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2" name=""/>
                    <p:cNvGrpSpPr/>
                    <p:nvPr/>
                  </p:nvGrpSpPr>
                  <p:grpSpPr>
                    <a:xfrm>
                      <a:off x="1138320" y="2527560"/>
                      <a:ext cx="259920" cy="146880"/>
                      <a:chOff x="1138320" y="2527560"/>
                      <a:chExt cx="259920" cy="146880"/>
                    </a:xfrm>
                  </p:grpSpPr>
                  <p:sp>
                    <p:nvSpPr>
                      <p:cNvPr id="273" name=""/>
                      <p:cNvSpPr/>
                      <p:nvPr/>
                    </p:nvSpPr>
                    <p:spPr>
                      <a:xfrm rot="19980000">
                        <a:off x="1125720" y="2596320"/>
                        <a:ext cx="28440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 rot="19980000">
                        <a:off x="1132920" y="2586960"/>
                        <a:ext cx="26460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1118160" y="2658960"/>
                    <a:ext cx="324720" cy="178200"/>
                    <a:chOff x="1118160" y="2658960"/>
                    <a:chExt cx="324720" cy="178200"/>
                  </a:xfrm>
                </p:grpSpPr>
                <p:grpSp>
                  <p:nvGrpSpPr>
                    <p:cNvPr id="276" name=""/>
                    <p:cNvGrpSpPr/>
                    <p:nvPr/>
                  </p:nvGrpSpPr>
                  <p:grpSpPr>
                    <a:xfrm>
                      <a:off x="1128600" y="2658960"/>
                      <a:ext cx="314280" cy="178200"/>
                      <a:chOff x="1128600" y="2658960"/>
                      <a:chExt cx="314280" cy="178200"/>
                    </a:xfrm>
                  </p:grpSpPr>
                  <p:sp>
                    <p:nvSpPr>
                      <p:cNvPr id="277" name=""/>
                      <p:cNvSpPr/>
                      <p:nvPr/>
                    </p:nvSpPr>
                    <p:spPr>
                      <a:xfrm rot="1620000">
                        <a:off x="1113480" y="2742480"/>
                        <a:ext cx="34380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8" name=""/>
                      <p:cNvSpPr/>
                      <p:nvPr/>
                    </p:nvSpPr>
                    <p:spPr>
                      <a:xfrm rot="1620000">
                        <a:off x="1127520" y="2730600"/>
                        <a:ext cx="320400" cy="16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880" bIns="-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9" name=""/>
                    <p:cNvGrpSpPr/>
                    <p:nvPr/>
                  </p:nvGrpSpPr>
                  <p:grpSpPr>
                    <a:xfrm>
                      <a:off x="1118160" y="2666160"/>
                      <a:ext cx="300960" cy="167760"/>
                      <a:chOff x="1118160" y="2666160"/>
                      <a:chExt cx="300960" cy="167760"/>
                    </a:xfrm>
                  </p:grpSpPr>
                  <p:sp>
                    <p:nvSpPr>
                      <p:cNvPr id="280" name=""/>
                      <p:cNvSpPr/>
                      <p:nvPr/>
                    </p:nvSpPr>
                    <p:spPr>
                      <a:xfrm rot="19980000">
                        <a:off x="1103040" y="2745360"/>
                        <a:ext cx="33048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" name=""/>
                      <p:cNvSpPr/>
                      <p:nvPr/>
                    </p:nvSpPr>
                    <p:spPr>
                      <a:xfrm rot="19980000">
                        <a:off x="1113120" y="2734920"/>
                        <a:ext cx="307800" cy="144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400" bIns="-32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1152000" y="2395080"/>
                    <a:ext cx="223560" cy="130320"/>
                    <a:chOff x="1152000" y="2395080"/>
                    <a:chExt cx="223560" cy="130320"/>
                  </a:xfrm>
                </p:grpSpPr>
                <p:grpSp>
                  <p:nvGrpSpPr>
                    <p:cNvPr id="283" name=""/>
                    <p:cNvGrpSpPr/>
                    <p:nvPr/>
                  </p:nvGrpSpPr>
                  <p:grpSpPr>
                    <a:xfrm>
                      <a:off x="1158120" y="2395080"/>
                      <a:ext cx="217440" cy="130320"/>
                      <a:chOff x="1158120" y="2395080"/>
                      <a:chExt cx="217440" cy="130320"/>
                    </a:xfrm>
                  </p:grpSpPr>
                  <p:sp>
                    <p:nvSpPr>
                      <p:cNvPr id="284" name=""/>
                      <p:cNvSpPr/>
                      <p:nvPr/>
                    </p:nvSpPr>
                    <p:spPr>
                      <a:xfrm rot="1620000">
                        <a:off x="1149120" y="2455200"/>
                        <a:ext cx="23508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 rot="1620000">
                        <a:off x="1159560" y="2443680"/>
                        <a:ext cx="21888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6" name=""/>
                    <p:cNvGrpSpPr/>
                    <p:nvPr/>
                  </p:nvGrpSpPr>
                  <p:grpSpPr>
                    <a:xfrm>
                      <a:off x="1152000" y="2401560"/>
                      <a:ext cx="207360" cy="121320"/>
                      <a:chOff x="1152000" y="2401560"/>
                      <a:chExt cx="207360" cy="121320"/>
                    </a:xfrm>
                  </p:grpSpPr>
                  <p:sp>
                    <p:nvSpPr>
                      <p:cNvPr id="287" name=""/>
                      <p:cNvSpPr/>
                      <p:nvPr/>
                    </p:nvSpPr>
                    <p:spPr>
                      <a:xfrm rot="19980000">
                        <a:off x="1142640" y="2458080"/>
                        <a:ext cx="22572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" name=""/>
                      <p:cNvSpPr/>
                      <p:nvPr/>
                    </p:nvSpPr>
                    <p:spPr>
                      <a:xfrm rot="19980000">
                        <a:off x="1149120" y="2448720"/>
                        <a:ext cx="21060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1154160" y="2263680"/>
                    <a:ext cx="194040" cy="117000"/>
                    <a:chOff x="1154160" y="2263680"/>
                    <a:chExt cx="194040" cy="117000"/>
                  </a:xfrm>
                </p:grpSpPr>
                <p:grpSp>
                  <p:nvGrpSpPr>
                    <p:cNvPr id="290" name=""/>
                    <p:cNvGrpSpPr/>
                    <p:nvPr/>
                  </p:nvGrpSpPr>
                  <p:grpSpPr>
                    <a:xfrm>
                      <a:off x="1158480" y="2263680"/>
                      <a:ext cx="189720" cy="117000"/>
                      <a:chOff x="1158480" y="2263680"/>
                      <a:chExt cx="189720" cy="117000"/>
                    </a:xfrm>
                  </p:grpSpPr>
                  <p:sp>
                    <p:nvSpPr>
                      <p:cNvPr id="291" name=""/>
                      <p:cNvSpPr/>
                      <p:nvPr/>
                    </p:nvSpPr>
                    <p:spPr>
                      <a:xfrm rot="1620000">
                        <a:off x="1150920" y="2318040"/>
                        <a:ext cx="204480" cy="16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880" bIns="-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 rot="1620000">
                        <a:off x="1160640" y="2305800"/>
                        <a:ext cx="19044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3" name=""/>
                    <p:cNvGrpSpPr/>
                    <p:nvPr/>
                  </p:nvGrpSpPr>
                  <p:grpSpPr>
                    <a:xfrm>
                      <a:off x="1154160" y="2269800"/>
                      <a:ext cx="181080" cy="108720"/>
                      <a:chOff x="1154160" y="2269800"/>
                      <a:chExt cx="181080" cy="108720"/>
                    </a:xfrm>
                  </p:grpSpPr>
                  <p:sp>
                    <p:nvSpPr>
                      <p:cNvPr id="294" name=""/>
                      <p:cNvSpPr/>
                      <p:nvPr/>
                    </p:nvSpPr>
                    <p:spPr>
                      <a:xfrm rot="19980000">
                        <a:off x="1146600" y="2320560"/>
                        <a:ext cx="19620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5" name=""/>
                      <p:cNvSpPr/>
                      <p:nvPr/>
                    </p:nvSpPr>
                    <p:spPr>
                      <a:xfrm rot="19980000">
                        <a:off x="1152000" y="2310480"/>
                        <a:ext cx="18288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1178640" y="2137320"/>
                    <a:ext cx="129240" cy="20160"/>
                    <a:chOff x="1178640" y="2137320"/>
                    <a:chExt cx="129240" cy="2016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1178640" y="2143440"/>
                      <a:ext cx="129240" cy="140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cecece"/>
                        </a:gs>
                        <a:gs pos="100000">
                          <a:srgbClr val="7b7b7b"/>
                        </a:gs>
                      </a:gsLst>
                      <a:lin ang="81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760" bIns="-32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1181160" y="2137320"/>
                      <a:ext cx="120960" cy="140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e1e1e"/>
                        </a:gs>
                        <a:gs pos="100000">
                          <a:srgbClr val="676767"/>
                        </a:gs>
                      </a:gsLst>
                      <a:lin ang="81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760" bIns="-32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1158480" y="2172240"/>
                    <a:ext cx="170280" cy="104760"/>
                    <a:chOff x="1158480" y="2172240"/>
                    <a:chExt cx="170280" cy="104760"/>
                  </a:xfrm>
                </p:grpSpPr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1162800" y="2172240"/>
                      <a:ext cx="165960" cy="104760"/>
                      <a:chOff x="1162800" y="2172240"/>
                      <a:chExt cx="165960" cy="10476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 rot="1620000">
                        <a:off x="1157040" y="2220120"/>
                        <a:ext cx="17748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 rot="1620000">
                        <a:off x="1163160" y="2208600"/>
                        <a:ext cx="165240" cy="180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3" name=""/>
                    <p:cNvGrpSpPr/>
                    <p:nvPr/>
                  </p:nvGrpSpPr>
                  <p:grpSpPr>
                    <a:xfrm>
                      <a:off x="1158480" y="2178720"/>
                      <a:ext cx="158040" cy="97200"/>
                      <a:chOff x="1158480" y="2178720"/>
                      <a:chExt cx="158040" cy="97200"/>
                    </a:xfrm>
                  </p:grpSpPr>
                  <p:sp>
                    <p:nvSpPr>
                      <p:cNvPr id="304" name=""/>
                      <p:cNvSpPr/>
                      <p:nvPr/>
                    </p:nvSpPr>
                    <p:spPr>
                      <a:xfrm rot="19980000">
                        <a:off x="1152360" y="2223360"/>
                        <a:ext cx="169920" cy="144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400" bIns="-32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" name=""/>
                      <p:cNvSpPr/>
                      <p:nvPr/>
                    </p:nvSpPr>
                    <p:spPr>
                      <a:xfrm rot="19980000">
                        <a:off x="1156680" y="2213640"/>
                        <a:ext cx="15876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1173240" y="1447920"/>
                  <a:ext cx="101520" cy="531720"/>
                  <a:chOff x="1173240" y="1447920"/>
                  <a:chExt cx="101520" cy="53172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1215720" y="1447920"/>
                    <a:ext cx="16200" cy="53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41414"/>
                      </a:gs>
                      <a:gs pos="50000">
                        <a:srgbClr val="676767"/>
                      </a:gs>
                      <a:gs pos="100000">
                        <a:srgbClr val="14141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1176480" y="1662120"/>
                    <a:ext cx="98280" cy="35640"/>
                    <a:chOff x="1176480" y="1662120"/>
                    <a:chExt cx="98280" cy="3564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1176480" y="1662120"/>
                      <a:ext cx="42480" cy="35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2929"/>
                        </a:gs>
                        <a:gs pos="50000">
                          <a:srgbClr val="676767"/>
                        </a:gs>
                        <a:gs pos="100000">
                          <a:srgbClr val="29292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1232280" y="1662120"/>
                      <a:ext cx="42480" cy="35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2929"/>
                        </a:gs>
                        <a:gs pos="50000">
                          <a:srgbClr val="676767"/>
                        </a:gs>
                        <a:gs pos="100000">
                          <a:srgbClr val="29292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1176480" y="1588320"/>
                    <a:ext cx="98280" cy="36720"/>
                    <a:chOff x="1176480" y="1588320"/>
                    <a:chExt cx="98280" cy="3672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1176480" y="1588320"/>
                      <a:ext cx="42480" cy="367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2929"/>
                        </a:gs>
                        <a:gs pos="50000">
                          <a:srgbClr val="676767"/>
                        </a:gs>
                        <a:gs pos="100000">
                          <a:srgbClr val="29292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1232280" y="1588320"/>
                      <a:ext cx="42480" cy="367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2929"/>
                        </a:gs>
                        <a:gs pos="50000">
                          <a:srgbClr val="676767"/>
                        </a:gs>
                        <a:gs pos="100000">
                          <a:srgbClr val="29292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1173240" y="1514880"/>
                    <a:ext cx="98280" cy="36720"/>
                    <a:chOff x="1173240" y="1514880"/>
                    <a:chExt cx="98280" cy="3672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1173240" y="1514880"/>
                      <a:ext cx="42480" cy="367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2929"/>
                        </a:gs>
                        <a:gs pos="50000">
                          <a:srgbClr val="676767"/>
                        </a:gs>
                        <a:gs pos="100000">
                          <a:srgbClr val="29292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1229040" y="1514880"/>
                      <a:ext cx="42480" cy="367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2929"/>
                        </a:gs>
                        <a:gs pos="50000">
                          <a:srgbClr val="676767"/>
                        </a:gs>
                        <a:gs pos="100000">
                          <a:srgbClr val="29292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919800" y="1764000"/>
                  <a:ext cx="592200" cy="1518840"/>
                  <a:chOff x="919800" y="1764000"/>
                  <a:chExt cx="592200" cy="1518840"/>
                </a:xfrm>
              </p:grpSpPr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1118880" y="1800000"/>
                    <a:ext cx="393120" cy="1311840"/>
                    <a:chOff x="1118880" y="1800000"/>
                    <a:chExt cx="393120" cy="1311840"/>
                  </a:xfrm>
                </p:grpSpPr>
                <p:grpSp>
                  <p:nvGrpSpPr>
                    <p:cNvPr id="319" name=""/>
                    <p:cNvGrpSpPr/>
                    <p:nvPr/>
                  </p:nvGrpSpPr>
                  <p:grpSpPr>
                    <a:xfrm>
                      <a:off x="1210680" y="1824120"/>
                      <a:ext cx="301320" cy="1286280"/>
                      <a:chOff x="1210680" y="1824120"/>
                      <a:chExt cx="301320" cy="1286280"/>
                    </a:xfrm>
                  </p:grpSpPr>
                  <p:sp>
                    <p:nvSpPr>
                      <p:cNvPr id="320" name=""/>
                      <p:cNvSpPr/>
                      <p:nvPr/>
                    </p:nvSpPr>
                    <p:spPr>
                      <a:xfrm>
                        <a:off x="1210680" y="1827360"/>
                        <a:ext cx="291960" cy="128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1" h="1431">
                            <a:moveTo>
                              <a:pt x="310" y="1425"/>
                            </a:moveTo>
                            <a:lnTo>
                              <a:pt x="285" y="1430"/>
                            </a:lnTo>
                            <a:lnTo>
                              <a:pt x="0" y="5"/>
                            </a:lnTo>
                            <a:lnTo>
                              <a:pt x="22" y="0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474747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" name=""/>
                      <p:cNvSpPr/>
                      <p:nvPr/>
                    </p:nvSpPr>
                    <p:spPr>
                      <a:xfrm>
                        <a:off x="1220040" y="1824120"/>
                        <a:ext cx="291960" cy="128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1" h="1434">
                            <a:moveTo>
                              <a:pt x="310" y="1427"/>
                            </a:moveTo>
                            <a:lnTo>
                              <a:pt x="20" y="0"/>
                            </a:lnTo>
                            <a:lnTo>
                              <a:pt x="0" y="10"/>
                            </a:lnTo>
                            <a:lnTo>
                              <a:pt x="286" y="1433"/>
                            </a:lnTo>
                            <a:lnTo>
                              <a:pt x="310" y="1427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676767"/>
                          </a:gs>
                          <a:gs pos="5000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2" name=""/>
                    <p:cNvGrpSpPr/>
                    <p:nvPr/>
                  </p:nvGrpSpPr>
                  <p:grpSpPr>
                    <a:xfrm>
                      <a:off x="1118880" y="1800000"/>
                      <a:ext cx="110520" cy="1311840"/>
                      <a:chOff x="1118880" y="1800000"/>
                      <a:chExt cx="110520" cy="1311840"/>
                    </a:xfrm>
                  </p:grpSpPr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1118880" y="1800000"/>
                        <a:ext cx="102960" cy="130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453">
                            <a:moveTo>
                              <a:pt x="24" y="1452"/>
                            </a:moveTo>
                            <a:lnTo>
                              <a:pt x="0" y="1435"/>
                            </a:lnTo>
                            <a:lnTo>
                              <a:pt x="88" y="0"/>
                            </a:lnTo>
                            <a:lnTo>
                              <a:pt x="109" y="16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474747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>
                        <a:off x="1130040" y="1809720"/>
                        <a:ext cx="99360" cy="1302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452">
                            <a:moveTo>
                              <a:pt x="23" y="1451"/>
                            </a:moveTo>
                            <a:lnTo>
                              <a:pt x="105" y="8"/>
                            </a:lnTo>
                            <a:lnTo>
                              <a:pt x="83" y="0"/>
                            </a:lnTo>
                            <a:lnTo>
                              <a:pt x="0" y="1433"/>
                            </a:lnTo>
                            <a:lnTo>
                              <a:pt x="23" y="145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676767"/>
                          </a:gs>
                          <a:gs pos="5000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919800" y="1764000"/>
                    <a:ext cx="401040" cy="1518840"/>
                    <a:chOff x="919800" y="1764000"/>
                    <a:chExt cx="401040" cy="1518840"/>
                  </a:xfrm>
                </p:grpSpPr>
                <p:grpSp>
                  <p:nvGrpSpPr>
                    <p:cNvPr id="326" name=""/>
                    <p:cNvGrpSpPr/>
                    <p:nvPr/>
                  </p:nvGrpSpPr>
                  <p:grpSpPr>
                    <a:xfrm>
                      <a:off x="919800" y="1791000"/>
                      <a:ext cx="307080" cy="1491120"/>
                      <a:chOff x="919800" y="1791000"/>
                      <a:chExt cx="307080" cy="1491120"/>
                    </a:xfrm>
                  </p:grpSpPr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929880" y="1796040"/>
                        <a:ext cx="297000" cy="148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6" h="1657">
                            <a:moveTo>
                              <a:pt x="0" y="1650"/>
                            </a:moveTo>
                            <a:lnTo>
                              <a:pt x="25" y="1656"/>
                            </a:lnTo>
                            <a:lnTo>
                              <a:pt x="315" y="6"/>
                            </a:lnTo>
                            <a:lnTo>
                              <a:pt x="293" y="0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474747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919800" y="1791000"/>
                        <a:ext cx="297720" cy="1490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7" h="1662">
                            <a:moveTo>
                              <a:pt x="0" y="1654"/>
                            </a:moveTo>
                            <a:lnTo>
                              <a:pt x="295" y="0"/>
                            </a:lnTo>
                            <a:lnTo>
                              <a:pt x="316" y="12"/>
                            </a:lnTo>
                            <a:lnTo>
                              <a:pt x="24" y="1661"/>
                            </a:lnTo>
                            <a:lnTo>
                              <a:pt x="0" y="1654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676767"/>
                          </a:gs>
                          <a:gs pos="5000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9" name=""/>
                    <p:cNvGrpSpPr/>
                    <p:nvPr/>
                  </p:nvGrpSpPr>
                  <p:grpSpPr>
                    <a:xfrm>
                      <a:off x="1208160" y="1764000"/>
                      <a:ext cx="112680" cy="1518840"/>
                      <a:chOff x="1208160" y="1764000"/>
                      <a:chExt cx="112680" cy="1518840"/>
                    </a:xfrm>
                  </p:grpSpPr>
                  <p:sp>
                    <p:nvSpPr>
                      <p:cNvPr id="330" name=""/>
                      <p:cNvSpPr/>
                      <p:nvPr/>
                    </p:nvSpPr>
                    <p:spPr>
                      <a:xfrm>
                        <a:off x="1216440" y="1764000"/>
                        <a:ext cx="104400" cy="1509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683">
                            <a:moveTo>
                              <a:pt x="85" y="1682"/>
                            </a:moveTo>
                            <a:lnTo>
                              <a:pt x="110" y="1663"/>
                            </a:lnTo>
                            <a:lnTo>
                              <a:pt x="21" y="0"/>
                            </a:lnTo>
                            <a:lnTo>
                              <a:pt x="0" y="18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474747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1" name=""/>
                      <p:cNvSpPr/>
                      <p:nvPr/>
                    </p:nvSpPr>
                    <p:spPr>
                      <a:xfrm>
                        <a:off x="1208160" y="1773720"/>
                        <a:ext cx="101520" cy="1509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683">
                            <a:moveTo>
                              <a:pt x="84" y="1682"/>
                            </a:moveTo>
                            <a:lnTo>
                              <a:pt x="0" y="9"/>
                            </a:lnTo>
                            <a:lnTo>
                              <a:pt x="22" y="0"/>
                            </a:lnTo>
                            <a:lnTo>
                              <a:pt x="107" y="1661"/>
                            </a:lnTo>
                            <a:lnTo>
                              <a:pt x="84" y="1682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676767"/>
                          </a:gs>
                          <a:gs pos="5000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945360" y="2223360"/>
                  <a:ext cx="365400" cy="919440"/>
                  <a:chOff x="945360" y="2223360"/>
                  <a:chExt cx="365400" cy="919440"/>
                </a:xfrm>
              </p:grpSpPr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945360" y="2943360"/>
                    <a:ext cx="365400" cy="199440"/>
                    <a:chOff x="945360" y="2943360"/>
                    <a:chExt cx="365400" cy="199440"/>
                  </a:xfrm>
                </p:grpSpPr>
                <p:grpSp>
                  <p:nvGrpSpPr>
                    <p:cNvPr id="334" name=""/>
                    <p:cNvGrpSpPr/>
                    <p:nvPr/>
                  </p:nvGrpSpPr>
                  <p:grpSpPr>
                    <a:xfrm>
                      <a:off x="945360" y="2943360"/>
                      <a:ext cx="354600" cy="199440"/>
                      <a:chOff x="945360" y="2943360"/>
                      <a:chExt cx="354600" cy="199440"/>
                    </a:xfrm>
                  </p:grpSpPr>
                  <p:sp>
                    <p:nvSpPr>
                      <p:cNvPr id="335" name=""/>
                      <p:cNvSpPr/>
                      <p:nvPr/>
                    </p:nvSpPr>
                    <p:spPr>
                      <a:xfrm rot="19980000">
                        <a:off x="928440" y="3036960"/>
                        <a:ext cx="38844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6" name=""/>
                      <p:cNvSpPr/>
                      <p:nvPr/>
                    </p:nvSpPr>
                    <p:spPr>
                      <a:xfrm rot="19980000">
                        <a:off x="938880" y="3024360"/>
                        <a:ext cx="36252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37" name=""/>
                    <p:cNvGrpSpPr/>
                    <p:nvPr/>
                  </p:nvGrpSpPr>
                  <p:grpSpPr>
                    <a:xfrm>
                      <a:off x="971280" y="2952000"/>
                      <a:ext cx="339480" cy="187560"/>
                      <a:chOff x="971280" y="2952000"/>
                      <a:chExt cx="339480" cy="187560"/>
                    </a:xfrm>
                  </p:grpSpPr>
                  <p:sp>
                    <p:nvSpPr>
                      <p:cNvPr id="338" name=""/>
                      <p:cNvSpPr/>
                      <p:nvPr/>
                    </p:nvSpPr>
                    <p:spPr>
                      <a:xfrm rot="1620000">
                        <a:off x="954000" y="3040560"/>
                        <a:ext cx="37332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9" name=""/>
                      <p:cNvSpPr/>
                      <p:nvPr/>
                    </p:nvSpPr>
                    <p:spPr>
                      <a:xfrm rot="1620000">
                        <a:off x="968040" y="3030120"/>
                        <a:ext cx="34812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1002240" y="2629800"/>
                    <a:ext cx="279720" cy="158040"/>
                    <a:chOff x="1002240" y="2629800"/>
                    <a:chExt cx="279720" cy="158040"/>
                  </a:xfrm>
                </p:grpSpPr>
                <p:grpSp>
                  <p:nvGrpSpPr>
                    <p:cNvPr id="341" name=""/>
                    <p:cNvGrpSpPr/>
                    <p:nvPr/>
                  </p:nvGrpSpPr>
                  <p:grpSpPr>
                    <a:xfrm>
                      <a:off x="1002240" y="2629800"/>
                      <a:ext cx="271800" cy="158040"/>
                      <a:chOff x="1002240" y="2629800"/>
                      <a:chExt cx="271800" cy="158040"/>
                    </a:xfrm>
                  </p:grpSpPr>
                  <p:sp>
                    <p:nvSpPr>
                      <p:cNvPr id="342" name=""/>
                      <p:cNvSpPr/>
                      <p:nvPr/>
                    </p:nvSpPr>
                    <p:spPr>
                      <a:xfrm rot="19980000">
                        <a:off x="990000" y="2703240"/>
                        <a:ext cx="295560" cy="18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 rot="19980000">
                        <a:off x="998280" y="2691360"/>
                        <a:ext cx="276120" cy="18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44" name=""/>
                    <p:cNvGrpSpPr/>
                    <p:nvPr/>
                  </p:nvGrpSpPr>
                  <p:grpSpPr>
                    <a:xfrm>
                      <a:off x="1021680" y="2637360"/>
                      <a:ext cx="260280" cy="147960"/>
                      <a:chOff x="1021680" y="2637360"/>
                      <a:chExt cx="260280" cy="147960"/>
                    </a:xfrm>
                  </p:grpSpPr>
                  <p:sp>
                    <p:nvSpPr>
                      <p:cNvPr id="345" name=""/>
                      <p:cNvSpPr/>
                      <p:nvPr/>
                    </p:nvSpPr>
                    <p:spPr>
                      <a:xfrm rot="1620000">
                        <a:off x="1009440" y="2706840"/>
                        <a:ext cx="284400" cy="147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040" bIns="-32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6" name=""/>
                      <p:cNvSpPr/>
                      <p:nvPr/>
                    </p:nvSpPr>
                    <p:spPr>
                      <a:xfrm rot="1620000">
                        <a:off x="1020600" y="2696400"/>
                        <a:ext cx="264600" cy="147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040" bIns="-32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976320" y="2775600"/>
                    <a:ext cx="324360" cy="179280"/>
                    <a:chOff x="976320" y="2775600"/>
                    <a:chExt cx="324360" cy="179280"/>
                  </a:xfrm>
                </p:grpSpPr>
                <p:grpSp>
                  <p:nvGrpSpPr>
                    <p:cNvPr id="348" name=""/>
                    <p:cNvGrpSpPr/>
                    <p:nvPr/>
                  </p:nvGrpSpPr>
                  <p:grpSpPr>
                    <a:xfrm>
                      <a:off x="976320" y="2775600"/>
                      <a:ext cx="314640" cy="179280"/>
                      <a:chOff x="976320" y="2775600"/>
                      <a:chExt cx="314640" cy="179280"/>
                    </a:xfrm>
                  </p:grpSpPr>
                  <p:sp>
                    <p:nvSpPr>
                      <p:cNvPr id="349" name=""/>
                      <p:cNvSpPr/>
                      <p:nvPr/>
                    </p:nvSpPr>
                    <p:spPr>
                      <a:xfrm rot="19980000">
                        <a:off x="961560" y="2859120"/>
                        <a:ext cx="34344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0" name=""/>
                      <p:cNvSpPr/>
                      <p:nvPr/>
                    </p:nvSpPr>
                    <p:spPr>
                      <a:xfrm rot="19980000">
                        <a:off x="972000" y="2846880"/>
                        <a:ext cx="31968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1" name=""/>
                    <p:cNvGrpSpPr/>
                    <p:nvPr/>
                  </p:nvGrpSpPr>
                  <p:grpSpPr>
                    <a:xfrm>
                      <a:off x="999720" y="2783520"/>
                      <a:ext cx="300960" cy="168840"/>
                      <a:chOff x="999720" y="2783520"/>
                      <a:chExt cx="300960" cy="168840"/>
                    </a:xfrm>
                  </p:grpSpPr>
                  <p:sp>
                    <p:nvSpPr>
                      <p:cNvPr id="352" name=""/>
                      <p:cNvSpPr/>
                      <p:nvPr/>
                    </p:nvSpPr>
                    <p:spPr>
                      <a:xfrm rot="1620000">
                        <a:off x="984960" y="2862720"/>
                        <a:ext cx="33012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3" name=""/>
                      <p:cNvSpPr/>
                      <p:nvPr/>
                    </p:nvSpPr>
                    <p:spPr>
                      <a:xfrm rot="1620000">
                        <a:off x="996840" y="2852280"/>
                        <a:ext cx="30744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1043640" y="2497320"/>
                    <a:ext cx="223920" cy="131760"/>
                    <a:chOff x="1043640" y="2497320"/>
                    <a:chExt cx="223920" cy="131760"/>
                  </a:xfrm>
                </p:grpSpPr>
                <p:grpSp>
                  <p:nvGrpSpPr>
                    <p:cNvPr id="355" name=""/>
                    <p:cNvGrpSpPr/>
                    <p:nvPr/>
                  </p:nvGrpSpPr>
                  <p:grpSpPr>
                    <a:xfrm>
                      <a:off x="1043640" y="2497320"/>
                      <a:ext cx="217800" cy="131760"/>
                      <a:chOff x="1043640" y="2497320"/>
                      <a:chExt cx="217800" cy="131760"/>
                    </a:xfrm>
                  </p:grpSpPr>
                  <p:sp>
                    <p:nvSpPr>
                      <p:cNvPr id="356" name=""/>
                      <p:cNvSpPr/>
                      <p:nvPr/>
                    </p:nvSpPr>
                    <p:spPr>
                      <a:xfrm rot="19980000">
                        <a:off x="1035000" y="2558160"/>
                        <a:ext cx="23472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7" name=""/>
                      <p:cNvSpPr/>
                      <p:nvPr/>
                    </p:nvSpPr>
                    <p:spPr>
                      <a:xfrm rot="19980000">
                        <a:off x="1041120" y="2545920"/>
                        <a:ext cx="21888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8" name=""/>
                    <p:cNvGrpSpPr/>
                    <p:nvPr/>
                  </p:nvGrpSpPr>
                  <p:grpSpPr>
                    <a:xfrm>
                      <a:off x="1059840" y="2504520"/>
                      <a:ext cx="207720" cy="122760"/>
                      <a:chOff x="1059840" y="2504520"/>
                      <a:chExt cx="207720" cy="122760"/>
                    </a:xfrm>
                  </p:grpSpPr>
                  <p:sp>
                    <p:nvSpPr>
                      <p:cNvPr id="359" name=""/>
                      <p:cNvSpPr/>
                      <p:nvPr/>
                    </p:nvSpPr>
                    <p:spPr>
                      <a:xfrm rot="1620000">
                        <a:off x="1050840" y="2561400"/>
                        <a:ext cx="22536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0" name=""/>
                      <p:cNvSpPr/>
                      <p:nvPr/>
                    </p:nvSpPr>
                    <p:spPr>
                      <a:xfrm rot="1620000">
                        <a:off x="1058760" y="2551320"/>
                        <a:ext cx="21024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1070640" y="2358720"/>
                    <a:ext cx="195480" cy="118080"/>
                    <a:chOff x="1070640" y="2358720"/>
                    <a:chExt cx="195480" cy="118080"/>
                  </a:xfrm>
                </p:grpSpPr>
                <p:grpSp>
                  <p:nvGrpSpPr>
                    <p:cNvPr id="362" name=""/>
                    <p:cNvGrpSpPr/>
                    <p:nvPr/>
                  </p:nvGrpSpPr>
                  <p:grpSpPr>
                    <a:xfrm>
                      <a:off x="1070640" y="2358720"/>
                      <a:ext cx="190440" cy="118080"/>
                      <a:chOff x="1070640" y="2358720"/>
                      <a:chExt cx="190440" cy="118080"/>
                    </a:xfrm>
                  </p:grpSpPr>
                  <p:sp>
                    <p:nvSpPr>
                      <p:cNvPr id="363" name=""/>
                      <p:cNvSpPr/>
                      <p:nvPr/>
                    </p:nvSpPr>
                    <p:spPr>
                      <a:xfrm rot="19980000">
                        <a:off x="1063440" y="2413080"/>
                        <a:ext cx="204480" cy="18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4" name=""/>
                      <p:cNvSpPr/>
                      <p:nvPr/>
                    </p:nvSpPr>
                    <p:spPr>
                      <a:xfrm rot="19980000">
                        <a:off x="1068480" y="2400840"/>
                        <a:ext cx="19044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5" name=""/>
                    <p:cNvGrpSpPr/>
                    <p:nvPr/>
                  </p:nvGrpSpPr>
                  <p:grpSpPr>
                    <a:xfrm>
                      <a:off x="1084680" y="2365560"/>
                      <a:ext cx="181440" cy="109800"/>
                      <a:chOff x="1084680" y="2365560"/>
                      <a:chExt cx="181440" cy="109800"/>
                    </a:xfrm>
                  </p:grpSpPr>
                  <p:sp>
                    <p:nvSpPr>
                      <p:cNvPr id="366" name=""/>
                      <p:cNvSpPr/>
                      <p:nvPr/>
                    </p:nvSpPr>
                    <p:spPr>
                      <a:xfrm rot="1620000">
                        <a:off x="1077120" y="2416680"/>
                        <a:ext cx="19584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7" name=""/>
                      <p:cNvSpPr/>
                      <p:nvPr/>
                    </p:nvSpPr>
                    <p:spPr>
                      <a:xfrm rot="1620000">
                        <a:off x="1084320" y="2406240"/>
                        <a:ext cx="18288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1110960" y="2223360"/>
                    <a:ext cx="129600" cy="20160"/>
                    <a:chOff x="1110960" y="2223360"/>
                    <a:chExt cx="129600" cy="2016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1110960" y="2229480"/>
                      <a:ext cx="129600" cy="140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cecece"/>
                        </a:gs>
                        <a:gs pos="100000">
                          <a:srgbClr val="7b7b7b"/>
                        </a:gs>
                      </a:gsLst>
                      <a:lin ang="81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760" bIns="-32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1116360" y="2223360"/>
                      <a:ext cx="120960" cy="14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e1e1e"/>
                        </a:gs>
                        <a:gs pos="100000">
                          <a:srgbClr val="676767"/>
                        </a:gs>
                      </a:gsLst>
                      <a:lin ang="81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0" bIns="-32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1091160" y="2262240"/>
                    <a:ext cx="171000" cy="106560"/>
                    <a:chOff x="1091160" y="2262240"/>
                    <a:chExt cx="171000" cy="106560"/>
                  </a:xfrm>
                </p:grpSpPr>
                <p:grpSp>
                  <p:nvGrpSpPr>
                    <p:cNvPr id="372" name=""/>
                    <p:cNvGrpSpPr/>
                    <p:nvPr/>
                  </p:nvGrpSpPr>
                  <p:grpSpPr>
                    <a:xfrm>
                      <a:off x="1091160" y="2262240"/>
                      <a:ext cx="166680" cy="106560"/>
                      <a:chOff x="1091160" y="2262240"/>
                      <a:chExt cx="166680" cy="106560"/>
                    </a:xfrm>
                  </p:grpSpPr>
                  <p:sp>
                    <p:nvSpPr>
                      <p:cNvPr id="373" name=""/>
                      <p:cNvSpPr/>
                      <p:nvPr/>
                    </p:nvSpPr>
                    <p:spPr>
                      <a:xfrm rot="19980000">
                        <a:off x="1085400" y="2310840"/>
                        <a:ext cx="17748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4" name=""/>
                      <p:cNvSpPr/>
                      <p:nvPr/>
                    </p:nvSpPr>
                    <p:spPr>
                      <a:xfrm rot="19980000">
                        <a:off x="1090080" y="2298240"/>
                        <a:ext cx="16524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5" name=""/>
                    <p:cNvGrpSpPr/>
                    <p:nvPr/>
                  </p:nvGrpSpPr>
                  <p:grpSpPr>
                    <a:xfrm>
                      <a:off x="1103760" y="2268720"/>
                      <a:ext cx="158400" cy="98640"/>
                      <a:chOff x="1103760" y="2268720"/>
                      <a:chExt cx="158400" cy="98640"/>
                    </a:xfrm>
                  </p:grpSpPr>
                  <p:sp>
                    <p:nvSpPr>
                      <p:cNvPr id="376" name=""/>
                      <p:cNvSpPr/>
                      <p:nvPr/>
                    </p:nvSpPr>
                    <p:spPr>
                      <a:xfrm rot="1620000">
                        <a:off x="1097640" y="2314080"/>
                        <a:ext cx="16992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 rot="1620000">
                        <a:off x="1104480" y="2303640"/>
                        <a:ext cx="15876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78" name=""/>
                <p:cNvSpPr/>
                <p:nvPr/>
              </p:nvSpPr>
              <p:spPr>
                <a:xfrm>
                  <a:off x="852480" y="3298680"/>
                  <a:ext cx="489960" cy="112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1e1e1e"/>
                    </a:gs>
                    <a:gs pos="100000">
                      <a:srgbClr val="67676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303480" y="3646440"/>
                <a:ext cx="1526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9900"/>
                    </a:solidFill>
                    <a:latin typeface="Tempus Sans ITC"/>
                  </a:rPr>
                  <a:t>Cellul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9900"/>
                    </a:solidFill>
                    <a:latin typeface="Tempus Sans ITC"/>
                  </a:rPr>
                  <a:t>operato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2176560" y="4876920"/>
              <a:ext cx="1981080" cy="175248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empus Sans ITC"/>
                </a:rPr>
                <a:t>Othe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empus Sans ITC"/>
                </a:rPr>
                <a:t>conte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empus Sans ITC"/>
                </a:rPr>
                <a:t>provider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804960" y="4648320"/>
              <a:ext cx="1295280" cy="1371600"/>
            </a:xfrm>
            <a:custGeom>
              <a:avLst/>
              <a:gdLst>
                <a:gd name="textAreaLeft" fmla="*/ 432000 w 1295280"/>
                <a:gd name="textAreaRight" fmla="*/ 1109880 w 1295280"/>
                <a:gd name="textAreaTop" fmla="*/ 789840 h 1371600"/>
                <a:gd name="textAreaBottom" fmla="*/ 117504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7575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382" name="arrow5" descr=""/>
            <p:cNvPicPr/>
            <p:nvPr/>
          </p:nvPicPr>
          <p:blipFill>
            <a:blip r:embed="rId7"/>
            <a:stretch/>
          </p:blipFill>
          <p:spPr>
            <a:xfrm>
              <a:off x="1604880" y="1174680"/>
              <a:ext cx="1362240" cy="136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3" name=""/>
          <p:cNvGrpSpPr/>
          <p:nvPr/>
        </p:nvGrpSpPr>
        <p:grpSpPr>
          <a:xfrm>
            <a:off x="4766760" y="331920"/>
            <a:ext cx="4038480" cy="6297480"/>
            <a:chOff x="4766760" y="331920"/>
            <a:chExt cx="4038480" cy="6297480"/>
          </a:xfrm>
        </p:grpSpPr>
        <p:grpSp>
          <p:nvGrpSpPr>
            <p:cNvPr id="384" name=""/>
            <p:cNvGrpSpPr/>
            <p:nvPr/>
          </p:nvGrpSpPr>
          <p:grpSpPr>
            <a:xfrm>
              <a:off x="4766760" y="1143000"/>
              <a:ext cx="4038480" cy="5486400"/>
              <a:chOff x="4766760" y="1143000"/>
              <a:chExt cx="4038480" cy="5486400"/>
            </a:xfrm>
          </p:grpSpPr>
          <p:grpSp>
            <p:nvGrpSpPr>
              <p:cNvPr id="385" name=""/>
              <p:cNvGrpSpPr/>
              <p:nvPr/>
            </p:nvGrpSpPr>
            <p:grpSpPr>
              <a:xfrm>
                <a:off x="6771240" y="1434960"/>
                <a:ext cx="2034000" cy="2593440"/>
                <a:chOff x="6771240" y="1434960"/>
                <a:chExt cx="2034000" cy="2593440"/>
              </a:xfrm>
            </p:grpSpPr>
            <p:grpSp>
              <p:nvGrpSpPr>
                <p:cNvPr id="386" name=""/>
                <p:cNvGrpSpPr/>
                <p:nvPr/>
              </p:nvGrpSpPr>
              <p:grpSpPr>
                <a:xfrm>
                  <a:off x="7327800" y="1434960"/>
                  <a:ext cx="704520" cy="1970280"/>
                  <a:chOff x="7327800" y="1434960"/>
                  <a:chExt cx="704520" cy="197028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>
                    <a:off x="7811640" y="3060000"/>
                    <a:ext cx="220320" cy="34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385">
                        <a:moveTo>
                          <a:pt x="0" y="384"/>
                        </a:moveTo>
                        <a:lnTo>
                          <a:pt x="6" y="246"/>
                        </a:lnTo>
                        <a:lnTo>
                          <a:pt x="234" y="0"/>
                        </a:lnTo>
                        <a:lnTo>
                          <a:pt x="234" y="108"/>
                        </a:lnTo>
                        <a:lnTo>
                          <a:pt x="0" y="38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adada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7333200" y="3060000"/>
                    <a:ext cx="699120" cy="3290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367">
                        <a:moveTo>
                          <a:pt x="0" y="246"/>
                        </a:moveTo>
                        <a:lnTo>
                          <a:pt x="270" y="0"/>
                        </a:lnTo>
                        <a:lnTo>
                          <a:pt x="744" y="0"/>
                        </a:lnTo>
                        <a:lnTo>
                          <a:pt x="516" y="240"/>
                        </a:lnTo>
                        <a:lnTo>
                          <a:pt x="468" y="366"/>
                        </a:lnTo>
                        <a:lnTo>
                          <a:pt x="78" y="31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1c1c1c"/>
                      </a:gs>
                      <a:gs pos="100000">
                        <a:srgbClr val="919191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7584120" y="2124360"/>
                    <a:ext cx="365040" cy="878760"/>
                    <a:chOff x="7584120" y="2124360"/>
                    <a:chExt cx="365040" cy="878760"/>
                  </a:xfrm>
                </p:grpSpPr>
                <p:grpSp>
                  <p:nvGrpSpPr>
                    <p:cNvPr id="390" name=""/>
                    <p:cNvGrpSpPr/>
                    <p:nvPr/>
                  </p:nvGrpSpPr>
                  <p:grpSpPr>
                    <a:xfrm>
                      <a:off x="7584120" y="2805120"/>
                      <a:ext cx="365040" cy="198000"/>
                      <a:chOff x="7584120" y="2805120"/>
                      <a:chExt cx="365040" cy="198000"/>
                    </a:xfrm>
                  </p:grpSpPr>
                  <p:grpSp>
                    <p:nvGrpSpPr>
                      <p:cNvPr id="391" name=""/>
                      <p:cNvGrpSpPr/>
                      <p:nvPr/>
                    </p:nvGrpSpPr>
                    <p:grpSpPr>
                      <a:xfrm>
                        <a:off x="7595280" y="2805120"/>
                        <a:ext cx="353880" cy="198000"/>
                        <a:chOff x="7595280" y="2805120"/>
                        <a:chExt cx="353880" cy="198000"/>
                      </a:xfrm>
                    </p:grpSpPr>
                    <p:sp>
                      <p:nvSpPr>
                        <p:cNvPr id="392" name=""/>
                        <p:cNvSpPr/>
                        <p:nvPr/>
                      </p:nvSpPr>
                      <p:spPr>
                        <a:xfrm rot="1620000">
                          <a:off x="7578000" y="2898000"/>
                          <a:ext cx="38844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3" name=""/>
                        <p:cNvSpPr/>
                        <p:nvPr/>
                      </p:nvSpPr>
                      <p:spPr>
                        <a:xfrm rot="1620000">
                          <a:off x="7592760" y="2886120"/>
                          <a:ext cx="36216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94" name=""/>
                      <p:cNvGrpSpPr/>
                      <p:nvPr/>
                    </p:nvGrpSpPr>
                    <p:grpSpPr>
                      <a:xfrm>
                        <a:off x="7584120" y="2812680"/>
                        <a:ext cx="339120" cy="186480"/>
                        <a:chOff x="7584120" y="2812680"/>
                        <a:chExt cx="339120" cy="186480"/>
                      </a:xfrm>
                    </p:grpSpPr>
                    <p:sp>
                      <p:nvSpPr>
                        <p:cNvPr id="395" name=""/>
                        <p:cNvSpPr/>
                        <p:nvPr/>
                      </p:nvSpPr>
                      <p:spPr>
                        <a:xfrm rot="19980000">
                          <a:off x="7566840" y="2900880"/>
                          <a:ext cx="37332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6" name=""/>
                        <p:cNvSpPr/>
                        <p:nvPr/>
                      </p:nvSpPr>
                      <p:spPr>
                        <a:xfrm rot="19980000">
                          <a:off x="7578360" y="2890800"/>
                          <a:ext cx="34812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97" name=""/>
                    <p:cNvGrpSpPr/>
                    <p:nvPr/>
                  </p:nvGrpSpPr>
                  <p:grpSpPr>
                    <a:xfrm>
                      <a:off x="7613640" y="2507400"/>
                      <a:ext cx="279360" cy="156600"/>
                      <a:chOff x="7613640" y="2507400"/>
                      <a:chExt cx="279360" cy="156600"/>
                    </a:xfrm>
                  </p:grpSpPr>
                  <p:grpSp>
                    <p:nvGrpSpPr>
                      <p:cNvPr id="398" name=""/>
                      <p:cNvGrpSpPr/>
                      <p:nvPr/>
                    </p:nvGrpSpPr>
                    <p:grpSpPr>
                      <a:xfrm>
                        <a:off x="7621920" y="2507400"/>
                        <a:ext cx="271080" cy="156600"/>
                        <a:chOff x="7621920" y="2507400"/>
                        <a:chExt cx="271080" cy="156600"/>
                      </a:xfrm>
                    </p:grpSpPr>
                    <p:sp>
                      <p:nvSpPr>
                        <p:cNvPr id="399" name=""/>
                        <p:cNvSpPr/>
                        <p:nvPr/>
                      </p:nvSpPr>
                      <p:spPr>
                        <a:xfrm rot="1620000">
                          <a:off x="7609680" y="2580120"/>
                          <a:ext cx="29520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0" name=""/>
                        <p:cNvSpPr/>
                        <p:nvPr/>
                      </p:nvSpPr>
                      <p:spPr>
                        <a:xfrm rot="1620000">
                          <a:off x="7619760" y="2568960"/>
                          <a:ext cx="27576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01" name=""/>
                      <p:cNvGrpSpPr/>
                      <p:nvPr/>
                    </p:nvGrpSpPr>
                    <p:grpSpPr>
                      <a:xfrm>
                        <a:off x="7613640" y="2514600"/>
                        <a:ext cx="259560" cy="146880"/>
                        <a:chOff x="7613640" y="2514600"/>
                        <a:chExt cx="259560" cy="146880"/>
                      </a:xfrm>
                    </p:grpSpPr>
                    <p:sp>
                      <p:nvSpPr>
                        <p:cNvPr id="402" name=""/>
                        <p:cNvSpPr/>
                        <p:nvPr/>
                      </p:nvSpPr>
                      <p:spPr>
                        <a:xfrm rot="19980000">
                          <a:off x="7601040" y="2583360"/>
                          <a:ext cx="28404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" name=""/>
                        <p:cNvSpPr/>
                        <p:nvPr/>
                      </p:nvSpPr>
                      <p:spPr>
                        <a:xfrm rot="19980000">
                          <a:off x="7608240" y="2574000"/>
                          <a:ext cx="26460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04" name=""/>
                    <p:cNvGrpSpPr/>
                    <p:nvPr/>
                  </p:nvGrpSpPr>
                  <p:grpSpPr>
                    <a:xfrm>
                      <a:off x="7593480" y="2646360"/>
                      <a:ext cx="324000" cy="177840"/>
                      <a:chOff x="7593480" y="2646360"/>
                      <a:chExt cx="324000" cy="177840"/>
                    </a:xfrm>
                  </p:grpSpPr>
                  <p:grpSp>
                    <p:nvGrpSpPr>
                      <p:cNvPr id="405" name=""/>
                      <p:cNvGrpSpPr/>
                      <p:nvPr/>
                    </p:nvGrpSpPr>
                    <p:grpSpPr>
                      <a:xfrm>
                        <a:off x="7603560" y="2646360"/>
                        <a:ext cx="313920" cy="177840"/>
                        <a:chOff x="7603560" y="2646360"/>
                        <a:chExt cx="313920" cy="177840"/>
                      </a:xfrm>
                    </p:grpSpPr>
                    <p:sp>
                      <p:nvSpPr>
                        <p:cNvPr id="406" name=""/>
                        <p:cNvSpPr/>
                        <p:nvPr/>
                      </p:nvSpPr>
                      <p:spPr>
                        <a:xfrm rot="1620000">
                          <a:off x="7588440" y="2729160"/>
                          <a:ext cx="34344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7" name=""/>
                        <p:cNvSpPr/>
                        <p:nvPr/>
                      </p:nvSpPr>
                      <p:spPr>
                        <a:xfrm rot="1620000">
                          <a:off x="7602480" y="2718000"/>
                          <a:ext cx="320040" cy="169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880" bIns="-29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08" name=""/>
                      <p:cNvGrpSpPr/>
                      <p:nvPr/>
                    </p:nvGrpSpPr>
                    <p:grpSpPr>
                      <a:xfrm>
                        <a:off x="7593480" y="2653200"/>
                        <a:ext cx="300600" cy="167760"/>
                        <a:chOff x="7593480" y="2653200"/>
                        <a:chExt cx="300600" cy="167760"/>
                      </a:xfrm>
                    </p:grpSpPr>
                    <p:sp>
                      <p:nvSpPr>
                        <p:cNvPr id="409" name=""/>
                        <p:cNvSpPr/>
                        <p:nvPr/>
                      </p:nvSpPr>
                      <p:spPr>
                        <a:xfrm rot="19980000">
                          <a:off x="7578360" y="2732400"/>
                          <a:ext cx="33012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0" name=""/>
                        <p:cNvSpPr/>
                        <p:nvPr/>
                      </p:nvSpPr>
                      <p:spPr>
                        <a:xfrm rot="19980000">
                          <a:off x="7588440" y="2721960"/>
                          <a:ext cx="307440" cy="144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400" bIns="-324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11" name=""/>
                    <p:cNvGrpSpPr/>
                    <p:nvPr/>
                  </p:nvGrpSpPr>
                  <p:grpSpPr>
                    <a:xfrm>
                      <a:off x="7627320" y="2382120"/>
                      <a:ext cx="223200" cy="130320"/>
                      <a:chOff x="7627320" y="2382120"/>
                      <a:chExt cx="223200" cy="130320"/>
                    </a:xfrm>
                  </p:grpSpPr>
                  <p:grpSp>
                    <p:nvGrpSpPr>
                      <p:cNvPr id="412" name=""/>
                      <p:cNvGrpSpPr/>
                      <p:nvPr/>
                    </p:nvGrpSpPr>
                    <p:grpSpPr>
                      <a:xfrm>
                        <a:off x="7633440" y="2382120"/>
                        <a:ext cx="217080" cy="130320"/>
                        <a:chOff x="7633440" y="2382120"/>
                        <a:chExt cx="217080" cy="130320"/>
                      </a:xfrm>
                    </p:grpSpPr>
                    <p:sp>
                      <p:nvSpPr>
                        <p:cNvPr id="413" name=""/>
                        <p:cNvSpPr/>
                        <p:nvPr/>
                      </p:nvSpPr>
                      <p:spPr>
                        <a:xfrm rot="1620000">
                          <a:off x="7624440" y="2442240"/>
                          <a:ext cx="23472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4" name=""/>
                        <p:cNvSpPr/>
                        <p:nvPr/>
                      </p:nvSpPr>
                      <p:spPr>
                        <a:xfrm rot="1620000">
                          <a:off x="7634520" y="2430720"/>
                          <a:ext cx="21852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15" name=""/>
                      <p:cNvGrpSpPr/>
                      <p:nvPr/>
                    </p:nvGrpSpPr>
                    <p:grpSpPr>
                      <a:xfrm>
                        <a:off x="7627320" y="2388960"/>
                        <a:ext cx="207000" cy="120960"/>
                        <a:chOff x="7627320" y="2388960"/>
                        <a:chExt cx="207000" cy="120960"/>
                      </a:xfrm>
                    </p:grpSpPr>
                    <p:sp>
                      <p:nvSpPr>
                        <p:cNvPr id="416" name=""/>
                        <p:cNvSpPr/>
                        <p:nvPr/>
                      </p:nvSpPr>
                      <p:spPr>
                        <a:xfrm rot="19980000">
                          <a:off x="7617960" y="2445120"/>
                          <a:ext cx="22536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7" name=""/>
                        <p:cNvSpPr/>
                        <p:nvPr/>
                      </p:nvSpPr>
                      <p:spPr>
                        <a:xfrm rot="19980000">
                          <a:off x="7624800" y="2435760"/>
                          <a:ext cx="21024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18" name=""/>
                    <p:cNvGrpSpPr/>
                    <p:nvPr/>
                  </p:nvGrpSpPr>
                  <p:grpSpPr>
                    <a:xfrm>
                      <a:off x="7629480" y="2250720"/>
                      <a:ext cx="194040" cy="117000"/>
                      <a:chOff x="7629480" y="2250720"/>
                      <a:chExt cx="194040" cy="117000"/>
                    </a:xfrm>
                  </p:grpSpPr>
                  <p:grpSp>
                    <p:nvGrpSpPr>
                      <p:cNvPr id="419" name=""/>
                      <p:cNvGrpSpPr/>
                      <p:nvPr/>
                    </p:nvGrpSpPr>
                    <p:grpSpPr>
                      <a:xfrm>
                        <a:off x="7633800" y="2250720"/>
                        <a:ext cx="189720" cy="117000"/>
                        <a:chOff x="7633800" y="2250720"/>
                        <a:chExt cx="189720" cy="117000"/>
                      </a:xfrm>
                    </p:grpSpPr>
                    <p:sp>
                      <p:nvSpPr>
                        <p:cNvPr id="420" name=""/>
                        <p:cNvSpPr/>
                        <p:nvPr/>
                      </p:nvSpPr>
                      <p:spPr>
                        <a:xfrm rot="1620000">
                          <a:off x="7626240" y="2305080"/>
                          <a:ext cx="204480" cy="169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880" bIns="-29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1" name=""/>
                        <p:cNvSpPr/>
                        <p:nvPr/>
                      </p:nvSpPr>
                      <p:spPr>
                        <a:xfrm rot="1620000">
                          <a:off x="7635960" y="2292840"/>
                          <a:ext cx="19044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22" name=""/>
                      <p:cNvGrpSpPr/>
                      <p:nvPr/>
                    </p:nvGrpSpPr>
                    <p:grpSpPr>
                      <a:xfrm>
                        <a:off x="7629480" y="2256840"/>
                        <a:ext cx="181080" cy="108720"/>
                        <a:chOff x="7629480" y="2256840"/>
                        <a:chExt cx="181080" cy="108720"/>
                      </a:xfrm>
                    </p:grpSpPr>
                    <p:sp>
                      <p:nvSpPr>
                        <p:cNvPr id="423" name=""/>
                        <p:cNvSpPr/>
                        <p:nvPr/>
                      </p:nvSpPr>
                      <p:spPr>
                        <a:xfrm rot="19980000">
                          <a:off x="7621920" y="2307600"/>
                          <a:ext cx="19620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4" name=""/>
                        <p:cNvSpPr/>
                        <p:nvPr/>
                      </p:nvSpPr>
                      <p:spPr>
                        <a:xfrm rot="19980000">
                          <a:off x="7627320" y="2297520"/>
                          <a:ext cx="18288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25" name=""/>
                    <p:cNvGrpSpPr/>
                    <p:nvPr/>
                  </p:nvGrpSpPr>
                  <p:grpSpPr>
                    <a:xfrm>
                      <a:off x="7653960" y="2124360"/>
                      <a:ext cx="129240" cy="20160"/>
                      <a:chOff x="7653960" y="2124360"/>
                      <a:chExt cx="129240" cy="20160"/>
                    </a:xfrm>
                  </p:grpSpPr>
                  <p:sp>
                    <p:nvSpPr>
                      <p:cNvPr id="426" name=""/>
                      <p:cNvSpPr/>
                      <p:nvPr/>
                    </p:nvSpPr>
                    <p:spPr>
                      <a:xfrm>
                        <a:off x="7653960" y="2130480"/>
                        <a:ext cx="12924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7" name=""/>
                      <p:cNvSpPr/>
                      <p:nvPr/>
                    </p:nvSpPr>
                    <p:spPr>
                      <a:xfrm>
                        <a:off x="7656480" y="2124360"/>
                        <a:ext cx="12096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8" name=""/>
                    <p:cNvGrpSpPr/>
                    <p:nvPr/>
                  </p:nvGrpSpPr>
                  <p:grpSpPr>
                    <a:xfrm>
                      <a:off x="7633800" y="2159280"/>
                      <a:ext cx="170280" cy="104760"/>
                      <a:chOff x="7633800" y="2159280"/>
                      <a:chExt cx="170280" cy="104760"/>
                    </a:xfrm>
                  </p:grpSpPr>
                  <p:grpSp>
                    <p:nvGrpSpPr>
                      <p:cNvPr id="429" name=""/>
                      <p:cNvGrpSpPr/>
                      <p:nvPr/>
                    </p:nvGrpSpPr>
                    <p:grpSpPr>
                      <a:xfrm>
                        <a:off x="7638120" y="2159280"/>
                        <a:ext cx="165960" cy="104760"/>
                        <a:chOff x="7638120" y="2159280"/>
                        <a:chExt cx="165960" cy="104760"/>
                      </a:xfrm>
                    </p:grpSpPr>
                    <p:sp>
                      <p:nvSpPr>
                        <p:cNvPr id="430" name=""/>
                        <p:cNvSpPr/>
                        <p:nvPr/>
                      </p:nvSpPr>
                      <p:spPr>
                        <a:xfrm rot="1620000">
                          <a:off x="7632360" y="2207160"/>
                          <a:ext cx="17748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1" name=""/>
                        <p:cNvSpPr/>
                        <p:nvPr/>
                      </p:nvSpPr>
                      <p:spPr>
                        <a:xfrm rot="1620000">
                          <a:off x="7638480" y="2195640"/>
                          <a:ext cx="165240" cy="180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32" name=""/>
                      <p:cNvGrpSpPr/>
                      <p:nvPr/>
                    </p:nvGrpSpPr>
                    <p:grpSpPr>
                      <a:xfrm>
                        <a:off x="7633800" y="2165760"/>
                        <a:ext cx="158040" cy="97200"/>
                        <a:chOff x="7633800" y="2165760"/>
                        <a:chExt cx="158040" cy="97200"/>
                      </a:xfrm>
                    </p:grpSpPr>
                    <p:sp>
                      <p:nvSpPr>
                        <p:cNvPr id="433" name=""/>
                        <p:cNvSpPr/>
                        <p:nvPr/>
                      </p:nvSpPr>
                      <p:spPr>
                        <a:xfrm rot="19980000">
                          <a:off x="7627680" y="2210400"/>
                          <a:ext cx="169920" cy="144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400" bIns="-324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4" name=""/>
                        <p:cNvSpPr/>
                        <p:nvPr/>
                      </p:nvSpPr>
                      <p:spPr>
                        <a:xfrm rot="19980000">
                          <a:off x="7632000" y="2200680"/>
                          <a:ext cx="15876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35" name=""/>
                  <p:cNvGrpSpPr/>
                  <p:nvPr/>
                </p:nvGrpSpPr>
                <p:grpSpPr>
                  <a:xfrm>
                    <a:off x="7648560" y="1434960"/>
                    <a:ext cx="101520" cy="531720"/>
                    <a:chOff x="7648560" y="1434960"/>
                    <a:chExt cx="101520" cy="531720"/>
                  </a:xfrm>
                </p:grpSpPr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7691040" y="1434960"/>
                      <a:ext cx="16200" cy="5317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414"/>
                        </a:gs>
                        <a:gs pos="50000">
                          <a:srgbClr val="676767"/>
                        </a:gs>
                        <a:gs pos="100000">
                          <a:srgbClr val="141414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37" name=""/>
                    <p:cNvGrpSpPr/>
                    <p:nvPr/>
                  </p:nvGrpSpPr>
                  <p:grpSpPr>
                    <a:xfrm>
                      <a:off x="7651800" y="1649160"/>
                      <a:ext cx="98280" cy="35640"/>
                      <a:chOff x="7651800" y="1649160"/>
                      <a:chExt cx="98280" cy="35640"/>
                    </a:xfrm>
                  </p:grpSpPr>
                  <p:sp>
                    <p:nvSpPr>
                      <p:cNvPr id="438" name=""/>
                      <p:cNvSpPr/>
                      <p:nvPr/>
                    </p:nvSpPr>
                    <p:spPr>
                      <a:xfrm>
                        <a:off x="7651800" y="1649160"/>
                        <a:ext cx="42480" cy="35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292929"/>
                          </a:gs>
                          <a:gs pos="50000">
                            <a:srgbClr val="676767"/>
                          </a:gs>
                          <a:gs pos="100000">
                            <a:srgbClr val="292929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9" name=""/>
                      <p:cNvSpPr/>
                      <p:nvPr/>
                    </p:nvSpPr>
                    <p:spPr>
                      <a:xfrm>
                        <a:off x="7707600" y="1649160"/>
                        <a:ext cx="42480" cy="35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292929"/>
                          </a:gs>
                          <a:gs pos="50000">
                            <a:srgbClr val="676767"/>
                          </a:gs>
                          <a:gs pos="100000">
                            <a:srgbClr val="292929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0" name=""/>
                    <p:cNvGrpSpPr/>
                    <p:nvPr/>
                  </p:nvGrpSpPr>
                  <p:grpSpPr>
                    <a:xfrm>
                      <a:off x="7651800" y="1575360"/>
                      <a:ext cx="98280" cy="36720"/>
                      <a:chOff x="7651800" y="1575360"/>
                      <a:chExt cx="98280" cy="36720"/>
                    </a:xfrm>
                  </p:grpSpPr>
                  <p:sp>
                    <p:nvSpPr>
                      <p:cNvPr id="441" name=""/>
                      <p:cNvSpPr/>
                      <p:nvPr/>
                    </p:nvSpPr>
                    <p:spPr>
                      <a:xfrm>
                        <a:off x="7651800" y="1575360"/>
                        <a:ext cx="42480" cy="36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292929"/>
                          </a:gs>
                          <a:gs pos="50000">
                            <a:srgbClr val="676767"/>
                          </a:gs>
                          <a:gs pos="100000">
                            <a:srgbClr val="292929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707600" y="1575360"/>
                        <a:ext cx="42480" cy="36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292929"/>
                          </a:gs>
                          <a:gs pos="50000">
                            <a:srgbClr val="676767"/>
                          </a:gs>
                          <a:gs pos="100000">
                            <a:srgbClr val="292929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648560" y="1501920"/>
                      <a:ext cx="98280" cy="36720"/>
                      <a:chOff x="7648560" y="1501920"/>
                      <a:chExt cx="98280" cy="3672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648560" y="1501920"/>
                        <a:ext cx="42480" cy="36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292929"/>
                          </a:gs>
                          <a:gs pos="50000">
                            <a:srgbClr val="676767"/>
                          </a:gs>
                          <a:gs pos="100000">
                            <a:srgbClr val="292929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704360" y="1501920"/>
                        <a:ext cx="42480" cy="36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292929"/>
                          </a:gs>
                          <a:gs pos="50000">
                            <a:srgbClr val="676767"/>
                          </a:gs>
                          <a:gs pos="100000">
                            <a:srgbClr val="292929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7395120" y="1751400"/>
                    <a:ext cx="591840" cy="1518840"/>
                    <a:chOff x="7395120" y="1751400"/>
                    <a:chExt cx="591840" cy="1518840"/>
                  </a:xfrm>
                </p:grpSpPr>
                <p:grpSp>
                  <p:nvGrpSpPr>
                    <p:cNvPr id="447" name=""/>
                    <p:cNvGrpSpPr/>
                    <p:nvPr/>
                  </p:nvGrpSpPr>
                  <p:grpSpPr>
                    <a:xfrm>
                      <a:off x="7594200" y="1787400"/>
                      <a:ext cx="392760" cy="1311840"/>
                      <a:chOff x="7594200" y="1787400"/>
                      <a:chExt cx="392760" cy="1311840"/>
                    </a:xfrm>
                  </p:grpSpPr>
                  <p:grpSp>
                    <p:nvGrpSpPr>
                      <p:cNvPr id="448" name=""/>
                      <p:cNvGrpSpPr/>
                      <p:nvPr/>
                    </p:nvGrpSpPr>
                    <p:grpSpPr>
                      <a:xfrm>
                        <a:off x="7686000" y="1811520"/>
                        <a:ext cx="300960" cy="1286280"/>
                        <a:chOff x="7686000" y="1811520"/>
                        <a:chExt cx="300960" cy="1286280"/>
                      </a:xfrm>
                    </p:grpSpPr>
                    <p:sp>
                      <p:nvSpPr>
                        <p:cNvPr id="449" name=""/>
                        <p:cNvSpPr/>
                        <p:nvPr/>
                      </p:nvSpPr>
                      <p:spPr>
                        <a:xfrm>
                          <a:off x="7686000" y="1814760"/>
                          <a:ext cx="291600" cy="128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1" h="1431">
                              <a:moveTo>
                                <a:pt x="310" y="1425"/>
                              </a:moveTo>
                              <a:lnTo>
                                <a:pt x="285" y="1430"/>
                              </a:lnTo>
                              <a:lnTo>
                                <a:pt x="0" y="5"/>
                              </a:lnTo>
                              <a:lnTo>
                                <a:pt x="22" y="0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474747"/>
                            </a:gs>
                            <a:gs pos="100000">
                              <a:srgbClr val="919191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0" name=""/>
                        <p:cNvSpPr/>
                        <p:nvPr/>
                      </p:nvSpPr>
                      <p:spPr>
                        <a:xfrm>
                          <a:off x="7695360" y="1811520"/>
                          <a:ext cx="291600" cy="128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1" h="1434">
                              <a:moveTo>
                                <a:pt x="310" y="1427"/>
                              </a:moveTo>
                              <a:lnTo>
                                <a:pt x="20" y="0"/>
                              </a:lnTo>
                              <a:lnTo>
                                <a:pt x="0" y="10"/>
                              </a:lnTo>
                              <a:lnTo>
                                <a:pt x="286" y="1433"/>
                              </a:lnTo>
                              <a:lnTo>
                                <a:pt x="310" y="1427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676767"/>
                            </a:gs>
                            <a:gs pos="5000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1" name=""/>
                      <p:cNvGrpSpPr/>
                      <p:nvPr/>
                    </p:nvGrpSpPr>
                    <p:grpSpPr>
                      <a:xfrm>
                        <a:off x="7594200" y="1787400"/>
                        <a:ext cx="110520" cy="1311840"/>
                        <a:chOff x="7594200" y="1787400"/>
                        <a:chExt cx="110520" cy="1311840"/>
                      </a:xfrm>
                    </p:grpSpPr>
                    <p:sp>
                      <p:nvSpPr>
                        <p:cNvPr id="452" name=""/>
                        <p:cNvSpPr/>
                        <p:nvPr/>
                      </p:nvSpPr>
                      <p:spPr>
                        <a:xfrm>
                          <a:off x="7594200" y="1787400"/>
                          <a:ext cx="102960" cy="130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0" h="1453">
                              <a:moveTo>
                                <a:pt x="24" y="1452"/>
                              </a:moveTo>
                              <a:lnTo>
                                <a:pt x="0" y="1435"/>
                              </a:lnTo>
                              <a:lnTo>
                                <a:pt x="88" y="0"/>
                              </a:lnTo>
                              <a:lnTo>
                                <a:pt x="109" y="16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474747"/>
                            </a:gs>
                            <a:gs pos="100000">
                              <a:srgbClr val="919191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" name=""/>
                        <p:cNvSpPr/>
                        <p:nvPr/>
                      </p:nvSpPr>
                      <p:spPr>
                        <a:xfrm>
                          <a:off x="7605360" y="1797120"/>
                          <a:ext cx="99360" cy="1302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6" h="1452">
                              <a:moveTo>
                                <a:pt x="23" y="1451"/>
                              </a:moveTo>
                              <a:lnTo>
                                <a:pt x="105" y="8"/>
                              </a:lnTo>
                              <a:lnTo>
                                <a:pt x="83" y="0"/>
                              </a:lnTo>
                              <a:lnTo>
                                <a:pt x="0" y="1433"/>
                              </a:lnTo>
                              <a:lnTo>
                                <a:pt x="23" y="1451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676767"/>
                            </a:gs>
                            <a:gs pos="5000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54" name=""/>
                    <p:cNvGrpSpPr/>
                    <p:nvPr/>
                  </p:nvGrpSpPr>
                  <p:grpSpPr>
                    <a:xfrm>
                      <a:off x="7395120" y="1751400"/>
                      <a:ext cx="400320" cy="1518840"/>
                      <a:chOff x="7395120" y="1751400"/>
                      <a:chExt cx="400320" cy="1518840"/>
                    </a:xfrm>
                  </p:grpSpPr>
                  <p:grpSp>
                    <p:nvGrpSpPr>
                      <p:cNvPr id="455" name=""/>
                      <p:cNvGrpSpPr/>
                      <p:nvPr/>
                    </p:nvGrpSpPr>
                    <p:grpSpPr>
                      <a:xfrm>
                        <a:off x="7395120" y="1778400"/>
                        <a:ext cx="306720" cy="1491120"/>
                        <a:chOff x="7395120" y="1778400"/>
                        <a:chExt cx="306720" cy="1491120"/>
                      </a:xfrm>
                    </p:grpSpPr>
                    <p:sp>
                      <p:nvSpPr>
                        <p:cNvPr id="456" name=""/>
                        <p:cNvSpPr/>
                        <p:nvPr/>
                      </p:nvSpPr>
                      <p:spPr>
                        <a:xfrm>
                          <a:off x="7405200" y="1783440"/>
                          <a:ext cx="296640" cy="148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6" h="1657">
                              <a:moveTo>
                                <a:pt x="0" y="1650"/>
                              </a:moveTo>
                              <a:lnTo>
                                <a:pt x="25" y="1656"/>
                              </a:lnTo>
                              <a:lnTo>
                                <a:pt x="315" y="6"/>
                              </a:lnTo>
                              <a:lnTo>
                                <a:pt x="293" y="0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474747"/>
                            </a:gs>
                            <a:gs pos="100000">
                              <a:srgbClr val="919191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7" name=""/>
                        <p:cNvSpPr/>
                        <p:nvPr/>
                      </p:nvSpPr>
                      <p:spPr>
                        <a:xfrm>
                          <a:off x="7395120" y="1778400"/>
                          <a:ext cx="297360" cy="1490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1662">
                              <a:moveTo>
                                <a:pt x="0" y="1654"/>
                              </a:moveTo>
                              <a:lnTo>
                                <a:pt x="295" y="0"/>
                              </a:lnTo>
                              <a:lnTo>
                                <a:pt x="316" y="12"/>
                              </a:lnTo>
                              <a:lnTo>
                                <a:pt x="24" y="1661"/>
                              </a:lnTo>
                              <a:lnTo>
                                <a:pt x="0" y="1654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676767"/>
                            </a:gs>
                            <a:gs pos="5000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8" name=""/>
                      <p:cNvGrpSpPr/>
                      <p:nvPr/>
                    </p:nvGrpSpPr>
                    <p:grpSpPr>
                      <a:xfrm>
                        <a:off x="7683120" y="1751400"/>
                        <a:ext cx="112320" cy="1518840"/>
                        <a:chOff x="7683120" y="1751400"/>
                        <a:chExt cx="112320" cy="1518840"/>
                      </a:xfrm>
                    </p:grpSpPr>
                    <p:sp>
                      <p:nvSpPr>
                        <p:cNvPr id="459" name=""/>
                        <p:cNvSpPr/>
                        <p:nvPr/>
                      </p:nvSpPr>
                      <p:spPr>
                        <a:xfrm>
                          <a:off x="7691400" y="1751400"/>
                          <a:ext cx="104040" cy="1509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1" h="1683">
                              <a:moveTo>
                                <a:pt x="85" y="1682"/>
                              </a:moveTo>
                              <a:lnTo>
                                <a:pt x="110" y="1663"/>
                              </a:lnTo>
                              <a:lnTo>
                                <a:pt x="21" y="0"/>
                              </a:lnTo>
                              <a:lnTo>
                                <a:pt x="0" y="18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474747"/>
                            </a:gs>
                            <a:gs pos="100000">
                              <a:srgbClr val="919191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0" name=""/>
                        <p:cNvSpPr/>
                        <p:nvPr/>
                      </p:nvSpPr>
                      <p:spPr>
                        <a:xfrm>
                          <a:off x="7683120" y="1761120"/>
                          <a:ext cx="101160" cy="150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" h="1683">
                              <a:moveTo>
                                <a:pt x="84" y="1682"/>
                              </a:moveTo>
                              <a:lnTo>
                                <a:pt x="0" y="9"/>
                              </a:lnTo>
                              <a:lnTo>
                                <a:pt x="22" y="0"/>
                              </a:lnTo>
                              <a:lnTo>
                                <a:pt x="107" y="1661"/>
                              </a:lnTo>
                              <a:lnTo>
                                <a:pt x="84" y="1682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676767"/>
                            </a:gs>
                            <a:gs pos="5000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7420680" y="2210400"/>
                    <a:ext cx="365400" cy="919440"/>
                    <a:chOff x="7420680" y="2210400"/>
                    <a:chExt cx="365400" cy="919440"/>
                  </a:xfrm>
                </p:grpSpPr>
                <p:grpSp>
                  <p:nvGrpSpPr>
                    <p:cNvPr id="462" name=""/>
                    <p:cNvGrpSpPr/>
                    <p:nvPr/>
                  </p:nvGrpSpPr>
                  <p:grpSpPr>
                    <a:xfrm>
                      <a:off x="7420680" y="2930400"/>
                      <a:ext cx="365400" cy="199440"/>
                      <a:chOff x="7420680" y="2930400"/>
                      <a:chExt cx="365400" cy="199440"/>
                    </a:xfrm>
                  </p:grpSpPr>
                  <p:grpSp>
                    <p:nvGrpSpPr>
                      <p:cNvPr id="463" name=""/>
                      <p:cNvGrpSpPr/>
                      <p:nvPr/>
                    </p:nvGrpSpPr>
                    <p:grpSpPr>
                      <a:xfrm>
                        <a:off x="7420680" y="2930400"/>
                        <a:ext cx="354600" cy="199440"/>
                        <a:chOff x="7420680" y="2930400"/>
                        <a:chExt cx="354600" cy="199440"/>
                      </a:xfrm>
                    </p:grpSpPr>
                    <p:sp>
                      <p:nvSpPr>
                        <p:cNvPr id="464" name=""/>
                        <p:cNvSpPr/>
                        <p:nvPr/>
                      </p:nvSpPr>
                      <p:spPr>
                        <a:xfrm rot="19980000">
                          <a:off x="7403760" y="3024000"/>
                          <a:ext cx="38844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5" name=""/>
                        <p:cNvSpPr/>
                        <p:nvPr/>
                      </p:nvSpPr>
                      <p:spPr>
                        <a:xfrm rot="19980000">
                          <a:off x="7414200" y="3011400"/>
                          <a:ext cx="36252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66" name=""/>
                      <p:cNvGrpSpPr/>
                      <p:nvPr/>
                    </p:nvGrpSpPr>
                    <p:grpSpPr>
                      <a:xfrm>
                        <a:off x="7446600" y="2939040"/>
                        <a:ext cx="339480" cy="187560"/>
                        <a:chOff x="7446600" y="2939040"/>
                        <a:chExt cx="339480" cy="187560"/>
                      </a:xfrm>
                    </p:grpSpPr>
                    <p:sp>
                      <p:nvSpPr>
                        <p:cNvPr id="467" name=""/>
                        <p:cNvSpPr/>
                        <p:nvPr/>
                      </p:nvSpPr>
                      <p:spPr>
                        <a:xfrm rot="1620000">
                          <a:off x="7429320" y="3027600"/>
                          <a:ext cx="37332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8" name=""/>
                        <p:cNvSpPr/>
                        <p:nvPr/>
                      </p:nvSpPr>
                      <p:spPr>
                        <a:xfrm rot="1620000">
                          <a:off x="7443360" y="3017160"/>
                          <a:ext cx="34812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69" name=""/>
                    <p:cNvGrpSpPr/>
                    <p:nvPr/>
                  </p:nvGrpSpPr>
                  <p:grpSpPr>
                    <a:xfrm>
                      <a:off x="7477560" y="2616840"/>
                      <a:ext cx="279720" cy="158040"/>
                      <a:chOff x="7477560" y="2616840"/>
                      <a:chExt cx="279720" cy="158040"/>
                    </a:xfrm>
                  </p:grpSpPr>
                  <p:grpSp>
                    <p:nvGrpSpPr>
                      <p:cNvPr id="470" name=""/>
                      <p:cNvGrpSpPr/>
                      <p:nvPr/>
                    </p:nvGrpSpPr>
                    <p:grpSpPr>
                      <a:xfrm>
                        <a:off x="7477560" y="2616840"/>
                        <a:ext cx="271800" cy="158040"/>
                        <a:chOff x="7477560" y="2616840"/>
                        <a:chExt cx="271800" cy="158040"/>
                      </a:xfrm>
                    </p:grpSpPr>
                    <p:sp>
                      <p:nvSpPr>
                        <p:cNvPr id="471" name=""/>
                        <p:cNvSpPr/>
                        <p:nvPr/>
                      </p:nvSpPr>
                      <p:spPr>
                        <a:xfrm rot="19980000">
                          <a:off x="7465320" y="2690280"/>
                          <a:ext cx="295560" cy="183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2" name=""/>
                        <p:cNvSpPr/>
                        <p:nvPr/>
                      </p:nvSpPr>
                      <p:spPr>
                        <a:xfrm rot="19980000">
                          <a:off x="7473600" y="2678400"/>
                          <a:ext cx="276120" cy="183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73" name=""/>
                      <p:cNvGrpSpPr/>
                      <p:nvPr/>
                    </p:nvGrpSpPr>
                    <p:grpSpPr>
                      <a:xfrm>
                        <a:off x="7497000" y="2624400"/>
                        <a:ext cx="260280" cy="147960"/>
                        <a:chOff x="7497000" y="2624400"/>
                        <a:chExt cx="260280" cy="147960"/>
                      </a:xfrm>
                    </p:grpSpPr>
                    <p:sp>
                      <p:nvSpPr>
                        <p:cNvPr id="474" name=""/>
                        <p:cNvSpPr/>
                        <p:nvPr/>
                      </p:nvSpPr>
                      <p:spPr>
                        <a:xfrm rot="1620000">
                          <a:off x="7484760" y="2693880"/>
                          <a:ext cx="284400" cy="14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040" bIns="-32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5" name=""/>
                        <p:cNvSpPr/>
                        <p:nvPr/>
                      </p:nvSpPr>
                      <p:spPr>
                        <a:xfrm rot="1620000">
                          <a:off x="7495920" y="2683440"/>
                          <a:ext cx="264600" cy="14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040" bIns="-32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76" name=""/>
                    <p:cNvGrpSpPr/>
                    <p:nvPr/>
                  </p:nvGrpSpPr>
                  <p:grpSpPr>
                    <a:xfrm>
                      <a:off x="7451640" y="2762640"/>
                      <a:ext cx="324360" cy="179280"/>
                      <a:chOff x="7451640" y="2762640"/>
                      <a:chExt cx="324360" cy="179280"/>
                    </a:xfrm>
                  </p:grpSpPr>
                  <p:grpSp>
                    <p:nvGrpSpPr>
                      <p:cNvPr id="477" name=""/>
                      <p:cNvGrpSpPr/>
                      <p:nvPr/>
                    </p:nvGrpSpPr>
                    <p:grpSpPr>
                      <a:xfrm>
                        <a:off x="7451640" y="2762640"/>
                        <a:ext cx="314640" cy="179280"/>
                        <a:chOff x="7451640" y="2762640"/>
                        <a:chExt cx="314640" cy="179280"/>
                      </a:xfrm>
                    </p:grpSpPr>
                    <p:sp>
                      <p:nvSpPr>
                        <p:cNvPr id="478" name=""/>
                        <p:cNvSpPr/>
                        <p:nvPr/>
                      </p:nvSpPr>
                      <p:spPr>
                        <a:xfrm rot="19980000">
                          <a:off x="7436880" y="2846160"/>
                          <a:ext cx="34344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9" name=""/>
                        <p:cNvSpPr/>
                        <p:nvPr/>
                      </p:nvSpPr>
                      <p:spPr>
                        <a:xfrm rot="19980000">
                          <a:off x="7447320" y="2833920"/>
                          <a:ext cx="31968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80" name=""/>
                      <p:cNvGrpSpPr/>
                      <p:nvPr/>
                    </p:nvGrpSpPr>
                    <p:grpSpPr>
                      <a:xfrm>
                        <a:off x="7475040" y="2770560"/>
                        <a:ext cx="300960" cy="168840"/>
                        <a:chOff x="7475040" y="2770560"/>
                        <a:chExt cx="300960" cy="168840"/>
                      </a:xfrm>
                    </p:grpSpPr>
                    <p:sp>
                      <p:nvSpPr>
                        <p:cNvPr id="481" name=""/>
                        <p:cNvSpPr/>
                        <p:nvPr/>
                      </p:nvSpPr>
                      <p:spPr>
                        <a:xfrm rot="1620000">
                          <a:off x="7460280" y="2849760"/>
                          <a:ext cx="33012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2" name=""/>
                        <p:cNvSpPr/>
                        <p:nvPr/>
                      </p:nvSpPr>
                      <p:spPr>
                        <a:xfrm rot="1620000">
                          <a:off x="7472160" y="2839320"/>
                          <a:ext cx="30744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83" name=""/>
                    <p:cNvGrpSpPr/>
                    <p:nvPr/>
                  </p:nvGrpSpPr>
                  <p:grpSpPr>
                    <a:xfrm>
                      <a:off x="7518960" y="2484360"/>
                      <a:ext cx="223920" cy="131760"/>
                      <a:chOff x="7518960" y="2484360"/>
                      <a:chExt cx="223920" cy="131760"/>
                    </a:xfrm>
                  </p:grpSpPr>
                  <p:grpSp>
                    <p:nvGrpSpPr>
                      <p:cNvPr id="484" name=""/>
                      <p:cNvGrpSpPr/>
                      <p:nvPr/>
                    </p:nvGrpSpPr>
                    <p:grpSpPr>
                      <a:xfrm>
                        <a:off x="7518960" y="2484360"/>
                        <a:ext cx="217800" cy="131760"/>
                        <a:chOff x="7518960" y="2484360"/>
                        <a:chExt cx="217800" cy="131760"/>
                      </a:xfrm>
                    </p:grpSpPr>
                    <p:sp>
                      <p:nvSpPr>
                        <p:cNvPr id="485" name=""/>
                        <p:cNvSpPr/>
                        <p:nvPr/>
                      </p:nvSpPr>
                      <p:spPr>
                        <a:xfrm rot="19980000">
                          <a:off x="7510320" y="2545200"/>
                          <a:ext cx="23472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6" name=""/>
                        <p:cNvSpPr/>
                        <p:nvPr/>
                      </p:nvSpPr>
                      <p:spPr>
                        <a:xfrm rot="19980000">
                          <a:off x="7516440" y="2532960"/>
                          <a:ext cx="21888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87" name=""/>
                      <p:cNvGrpSpPr/>
                      <p:nvPr/>
                    </p:nvGrpSpPr>
                    <p:grpSpPr>
                      <a:xfrm>
                        <a:off x="7535160" y="2491560"/>
                        <a:ext cx="207720" cy="122760"/>
                        <a:chOff x="7535160" y="2491560"/>
                        <a:chExt cx="207720" cy="122760"/>
                      </a:xfrm>
                    </p:grpSpPr>
                    <p:sp>
                      <p:nvSpPr>
                        <p:cNvPr id="488" name=""/>
                        <p:cNvSpPr/>
                        <p:nvPr/>
                      </p:nvSpPr>
                      <p:spPr>
                        <a:xfrm rot="1620000">
                          <a:off x="7526160" y="2548440"/>
                          <a:ext cx="22536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9" name=""/>
                        <p:cNvSpPr/>
                        <p:nvPr/>
                      </p:nvSpPr>
                      <p:spPr>
                        <a:xfrm rot="1620000">
                          <a:off x="7534080" y="2538360"/>
                          <a:ext cx="21024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90" name=""/>
                    <p:cNvGrpSpPr/>
                    <p:nvPr/>
                  </p:nvGrpSpPr>
                  <p:grpSpPr>
                    <a:xfrm>
                      <a:off x="7545960" y="2345760"/>
                      <a:ext cx="195480" cy="118080"/>
                      <a:chOff x="7545960" y="2345760"/>
                      <a:chExt cx="195480" cy="118080"/>
                    </a:xfrm>
                  </p:grpSpPr>
                  <p:grpSp>
                    <p:nvGrpSpPr>
                      <p:cNvPr id="491" name=""/>
                      <p:cNvGrpSpPr/>
                      <p:nvPr/>
                    </p:nvGrpSpPr>
                    <p:grpSpPr>
                      <a:xfrm>
                        <a:off x="7545960" y="2345760"/>
                        <a:ext cx="190440" cy="118080"/>
                        <a:chOff x="7545960" y="2345760"/>
                        <a:chExt cx="190440" cy="118080"/>
                      </a:xfrm>
                    </p:grpSpPr>
                    <p:sp>
                      <p:nvSpPr>
                        <p:cNvPr id="492" name=""/>
                        <p:cNvSpPr/>
                        <p:nvPr/>
                      </p:nvSpPr>
                      <p:spPr>
                        <a:xfrm rot="19980000">
                          <a:off x="7538760" y="2400120"/>
                          <a:ext cx="204480" cy="183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3" name=""/>
                        <p:cNvSpPr/>
                        <p:nvPr/>
                      </p:nvSpPr>
                      <p:spPr>
                        <a:xfrm rot="19980000">
                          <a:off x="7543800" y="2387880"/>
                          <a:ext cx="19044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4" name=""/>
                      <p:cNvGrpSpPr/>
                      <p:nvPr/>
                    </p:nvGrpSpPr>
                    <p:grpSpPr>
                      <a:xfrm>
                        <a:off x="7560000" y="2352600"/>
                        <a:ext cx="181440" cy="109800"/>
                        <a:chOff x="7560000" y="2352600"/>
                        <a:chExt cx="181440" cy="109800"/>
                      </a:xfrm>
                    </p:grpSpPr>
                    <p:sp>
                      <p:nvSpPr>
                        <p:cNvPr id="495" name=""/>
                        <p:cNvSpPr/>
                        <p:nvPr/>
                      </p:nvSpPr>
                      <p:spPr>
                        <a:xfrm rot="1620000">
                          <a:off x="7552440" y="2403720"/>
                          <a:ext cx="19584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6" name=""/>
                        <p:cNvSpPr/>
                        <p:nvPr/>
                      </p:nvSpPr>
                      <p:spPr>
                        <a:xfrm rot="1620000">
                          <a:off x="7559640" y="2393280"/>
                          <a:ext cx="18288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97" name=""/>
                    <p:cNvGrpSpPr/>
                    <p:nvPr/>
                  </p:nvGrpSpPr>
                  <p:grpSpPr>
                    <a:xfrm>
                      <a:off x="7586280" y="2210400"/>
                      <a:ext cx="129600" cy="20160"/>
                      <a:chOff x="7586280" y="2210400"/>
                      <a:chExt cx="129600" cy="20160"/>
                    </a:xfrm>
                  </p:grpSpPr>
                  <p:sp>
                    <p:nvSpPr>
                      <p:cNvPr id="498" name=""/>
                      <p:cNvSpPr/>
                      <p:nvPr/>
                    </p:nvSpPr>
                    <p:spPr>
                      <a:xfrm>
                        <a:off x="7586280" y="2216520"/>
                        <a:ext cx="12960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9" name=""/>
                      <p:cNvSpPr/>
                      <p:nvPr/>
                    </p:nvSpPr>
                    <p:spPr>
                      <a:xfrm>
                        <a:off x="7591680" y="2210400"/>
                        <a:ext cx="120960" cy="144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400" bIns="-32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00" name=""/>
                    <p:cNvGrpSpPr/>
                    <p:nvPr/>
                  </p:nvGrpSpPr>
                  <p:grpSpPr>
                    <a:xfrm>
                      <a:off x="7566480" y="2249280"/>
                      <a:ext cx="171000" cy="106560"/>
                      <a:chOff x="7566480" y="2249280"/>
                      <a:chExt cx="171000" cy="106560"/>
                    </a:xfrm>
                  </p:grpSpPr>
                  <p:grpSp>
                    <p:nvGrpSpPr>
                      <p:cNvPr id="501" name=""/>
                      <p:cNvGrpSpPr/>
                      <p:nvPr/>
                    </p:nvGrpSpPr>
                    <p:grpSpPr>
                      <a:xfrm>
                        <a:off x="7566480" y="2249280"/>
                        <a:ext cx="166680" cy="106560"/>
                        <a:chOff x="7566480" y="2249280"/>
                        <a:chExt cx="166680" cy="106560"/>
                      </a:xfrm>
                    </p:grpSpPr>
                    <p:sp>
                      <p:nvSpPr>
                        <p:cNvPr id="502" name=""/>
                        <p:cNvSpPr/>
                        <p:nvPr/>
                      </p:nvSpPr>
                      <p:spPr>
                        <a:xfrm rot="19980000">
                          <a:off x="7560720" y="2297880"/>
                          <a:ext cx="17748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3" name=""/>
                        <p:cNvSpPr/>
                        <p:nvPr/>
                      </p:nvSpPr>
                      <p:spPr>
                        <a:xfrm rot="19980000">
                          <a:off x="7565400" y="2285280"/>
                          <a:ext cx="16524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4" name=""/>
                      <p:cNvGrpSpPr/>
                      <p:nvPr/>
                    </p:nvGrpSpPr>
                    <p:grpSpPr>
                      <a:xfrm>
                        <a:off x="7579080" y="2255760"/>
                        <a:ext cx="158400" cy="98640"/>
                        <a:chOff x="7579080" y="2255760"/>
                        <a:chExt cx="158400" cy="98640"/>
                      </a:xfrm>
                    </p:grpSpPr>
                    <p:sp>
                      <p:nvSpPr>
                        <p:cNvPr id="505" name=""/>
                        <p:cNvSpPr/>
                        <p:nvPr/>
                      </p:nvSpPr>
                      <p:spPr>
                        <a:xfrm rot="1620000">
                          <a:off x="7572960" y="2301120"/>
                          <a:ext cx="16992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6" name=""/>
                        <p:cNvSpPr/>
                        <p:nvPr/>
                      </p:nvSpPr>
                      <p:spPr>
                        <a:xfrm rot="1620000">
                          <a:off x="7579800" y="2290680"/>
                          <a:ext cx="15876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507" name=""/>
                  <p:cNvSpPr/>
                  <p:nvPr/>
                </p:nvSpPr>
                <p:spPr>
                  <a:xfrm>
                    <a:off x="7327800" y="3286080"/>
                    <a:ext cx="489600" cy="112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e1e1e"/>
                      </a:gs>
                      <a:gs pos="100000">
                        <a:srgbClr val="676767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"/>
                <p:cNvSpPr/>
                <p:nvPr/>
              </p:nvSpPr>
              <p:spPr>
                <a:xfrm>
                  <a:off x="6771240" y="3568680"/>
                  <a:ext cx="2034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400" spc="-1" strike="noStrike">
                      <a:solidFill>
                        <a:srgbClr val="ff9900"/>
                      </a:solidFill>
                      <a:latin typeface="Tempus Sans ITC"/>
                    </a:rPr>
                    <a:t>Broadcaster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>
                <a:off x="4767120" y="4876920"/>
                <a:ext cx="1981440" cy="1752480"/>
              </a:xfrm>
              <a:prstGeom prst="ellipse">
                <a:avLst/>
              </a:prstGeom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ff00"/>
                    </a:solidFill>
                    <a:latin typeface="Tempus Sans ITC"/>
                  </a:rPr>
                  <a:t>Broadcaste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4766400" y="1143000"/>
                <a:ext cx="2133720" cy="1143000"/>
              </a:xfrm>
              <a:custGeom>
                <a:avLst/>
                <a:gdLst>
                  <a:gd name="textAreaLeft" fmla="*/ 372960 w 2133720"/>
                  <a:gd name="textAreaRight" fmla="*/ 1546560 w 2133720"/>
                  <a:gd name="textAreaTop" fmla="*/ 153000 h 1143000"/>
                  <a:gd name="textAreaBottom" fmla="*/ 99000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50000">
                    <a:srgbClr val="757500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824520" y="4572000"/>
                <a:ext cx="1295640" cy="1371600"/>
              </a:xfrm>
              <a:custGeom>
                <a:avLst/>
                <a:gdLst>
                  <a:gd name="textAreaLeft" fmla="*/ 432000 w 1295640"/>
                  <a:gd name="textAreaRight" fmla="*/ 1109880 w 1295640"/>
                  <a:gd name="textAreaTop" fmla="*/ 789840 h 1371600"/>
                  <a:gd name="textAreaBottom" fmla="*/ 1175040 h 137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540"/>
                    </a:moveTo>
                    <a:lnTo>
                      <a:pt x="12440" y="15540"/>
                    </a:lnTo>
                    <a:lnTo>
                      <a:pt x="12440" y="7200"/>
                    </a:lnTo>
                    <a:lnTo>
                      <a:pt x="9340" y="7200"/>
                    </a:lnTo>
                    <a:lnTo>
                      <a:pt x="15470" y="0"/>
                    </a:lnTo>
                    <a:lnTo>
                      <a:pt x="21600" y="7200"/>
                    </a:lnTo>
                    <a:lnTo>
                      <a:pt x="18500" y="7200"/>
                    </a:lnTo>
                    <a:lnTo>
                      <a:pt x="185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50000">
                    <a:srgbClr val="757500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 txBox="1"/>
            <p:nvPr/>
          </p:nvSpPr>
          <p:spPr>
            <a:xfrm>
              <a:off x="6648480" y="331920"/>
              <a:ext cx="685800" cy="647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757500"/>
                      </a:gs>
                      <a:gs pos="5000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atin typeface="Arial Black"/>
                </a:rPr>
                <a:t>TV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660640" y="333360"/>
            <a:ext cx="3013560" cy="2001960"/>
            <a:chOff x="5660640" y="333360"/>
            <a:chExt cx="3013560" cy="2001960"/>
          </a:xfrm>
        </p:grpSpPr>
        <p:sp>
          <p:nvSpPr>
            <p:cNvPr id="514" name=""/>
            <p:cNvSpPr/>
            <p:nvPr/>
          </p:nvSpPr>
          <p:spPr>
            <a:xfrm rot="10800000">
              <a:off x="5660640" y="1142640"/>
              <a:ext cx="1824120" cy="1192320"/>
            </a:xfrm>
            <a:custGeom>
              <a:avLst/>
              <a:gdLst>
                <a:gd name="textAreaLeft" fmla="*/ 318960 w 1824120"/>
                <a:gd name="textAreaRight" fmla="*/ 1322640 w 1824120"/>
                <a:gd name="textAreaTop" fmla="*/ 159480 h 1192320"/>
                <a:gd name="textAreaBottom" fmla="*/ 1032840 h 11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5" name=""/>
            <p:cNvSpPr txBox="1"/>
            <p:nvPr/>
          </p:nvSpPr>
          <p:spPr>
            <a:xfrm>
              <a:off x="7605720" y="333360"/>
              <a:ext cx="1068480" cy="647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5400000"/>
                  </a:gradFill>
                  <a:latin typeface="Arial Black"/>
                </a:rPr>
                <a:t>Data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4272120" y="5354640"/>
            <a:ext cx="368280" cy="915840"/>
          </a:xfrm>
          <a:prstGeom prst="leftRight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ffff00"/>
              </a:gs>
              <a:gs pos="5000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52280" y="762120"/>
            <a:ext cx="61722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968400" y="2590920"/>
            <a:ext cx="2082600" cy="1174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139760" y="296532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Provider 1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41360" y="3232080"/>
            <a:ext cx="3747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1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95320" y="3232080"/>
            <a:ext cx="3747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2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251080" y="3232080"/>
            <a:ext cx="3729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3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74600" y="4406760"/>
            <a:ext cx="1870200" cy="693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form 1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14400" y="4032360"/>
            <a:ext cx="2244600" cy="0"/>
          </a:xfrm>
          <a:prstGeom prst="line">
            <a:avLst/>
          </a:prstGeom>
          <a:ln w="2232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67600" y="376380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PI 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50192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8288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40984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521160" y="2590920"/>
            <a:ext cx="2082600" cy="11746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654360" y="296532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Provider 2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94120" y="3232080"/>
            <a:ext cx="3747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4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48080" y="3232080"/>
            <a:ext cx="3747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5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03840" y="3232080"/>
            <a:ext cx="3729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6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627360" y="4406760"/>
            <a:ext cx="1870200" cy="693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form 2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67160" y="4032360"/>
            <a:ext cx="2244600" cy="0"/>
          </a:xfrm>
          <a:prstGeom prst="line">
            <a:avLst/>
          </a:prstGeom>
          <a:ln w="2232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20360" y="376380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PI 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05432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3564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96260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73920" y="2590920"/>
            <a:ext cx="2082600" cy="1174680"/>
          </a:xfrm>
          <a:prstGeom prst="ellipse">
            <a:avLst/>
          </a:prstGeom>
          <a:solidFill>
            <a:srgbClr val="00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245640" y="2965320"/>
            <a:ext cx="174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Provider 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46880" y="3232080"/>
            <a:ext cx="3747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A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900840" y="3232080"/>
            <a:ext cx="3747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B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56600" y="3232080"/>
            <a:ext cx="3729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C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80120" y="4406760"/>
            <a:ext cx="1870200" cy="693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form 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19920" y="4032360"/>
            <a:ext cx="2244600" cy="0"/>
          </a:xfrm>
          <a:prstGeom prst="line">
            <a:avLst/>
          </a:prstGeom>
          <a:ln w="2232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774200" y="37638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PI 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0708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8804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1536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6320" y="120600"/>
            <a:ext cx="682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00"/>
                </a:solidFill>
                <a:latin typeface="Tempus Sans ITC"/>
              </a:rPr>
              <a:t>Set-top Box  -  Vertical Marke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2280" y="762120"/>
            <a:ext cx="67057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" name=""/>
          <p:cNvGraphicFramePr/>
          <p:nvPr/>
        </p:nvGraphicFramePr>
        <p:xfrm>
          <a:off x="5867280" y="2530440"/>
          <a:ext cx="2590920" cy="14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2530440"/>
                    <a:ext cx="259092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"/>
          <p:cNvSpPr/>
          <p:nvPr/>
        </p:nvSpPr>
        <p:spPr>
          <a:xfrm flipV="1">
            <a:off x="990720" y="4095720"/>
            <a:ext cx="7086600" cy="6480"/>
          </a:xfrm>
          <a:prstGeom prst="line">
            <a:avLst/>
          </a:prstGeom>
          <a:ln w="2232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097840" y="394956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444840" y="2654280"/>
            <a:ext cx="2082960" cy="11746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54360" y="302904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Provider 2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17800" y="3295800"/>
            <a:ext cx="3747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4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272120" y="3295800"/>
            <a:ext cx="37440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5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727520" y="3295800"/>
            <a:ext cx="3729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6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78360" y="366876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59320" y="366876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886280" y="366876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666880" y="4406760"/>
            <a:ext cx="3657600" cy="1003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Platform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66680" y="2654280"/>
            <a:ext cx="2082960" cy="11746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235160" y="302904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Provider 1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47920" y="3295800"/>
            <a:ext cx="37440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1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93960" y="3295800"/>
            <a:ext cx="37440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2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349360" y="3295800"/>
            <a:ext cx="37332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3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710040" y="29718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92880" y="3295800"/>
            <a:ext cx="3747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a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302600" y="3295800"/>
            <a:ext cx="3729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z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1600200" y="3668760"/>
            <a:ext cx="1981080" cy="737640"/>
            <a:chOff x="1600200" y="3668760"/>
            <a:chExt cx="1981080" cy="737640"/>
          </a:xfrm>
        </p:grpSpPr>
        <p:grpSp>
          <p:nvGrpSpPr>
            <p:cNvPr id="575" name=""/>
            <p:cNvGrpSpPr/>
            <p:nvPr/>
          </p:nvGrpSpPr>
          <p:grpSpPr>
            <a:xfrm>
              <a:off x="1600200" y="3668760"/>
              <a:ext cx="907920" cy="280800"/>
              <a:chOff x="1600200" y="3668760"/>
              <a:chExt cx="907920" cy="280800"/>
            </a:xfrm>
          </p:grpSpPr>
          <p:sp>
            <p:nvSpPr>
              <p:cNvPr id="576" name=""/>
              <p:cNvSpPr/>
              <p:nvPr/>
            </p:nvSpPr>
            <p:spPr>
              <a:xfrm>
                <a:off x="1600200" y="3668760"/>
                <a:ext cx="0" cy="280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81160" y="3668760"/>
                <a:ext cx="0" cy="280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508120" y="3668760"/>
                <a:ext cx="0" cy="280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>
              <a:off x="2514600" y="3949560"/>
              <a:ext cx="1066680" cy="4568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057400" y="3949560"/>
              <a:ext cx="1143000" cy="4568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600200" y="3949560"/>
              <a:ext cx="1295280" cy="4568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7467480" y="3668760"/>
            <a:ext cx="0" cy="280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559560" y="3668760"/>
            <a:ext cx="0" cy="280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5486040" y="3949560"/>
            <a:ext cx="106668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6172200" y="3949560"/>
            <a:ext cx="129528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548320" y="2924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59080" y="32367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2280" y="762120"/>
            <a:ext cx="67057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6320" y="1206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00"/>
                </a:solidFill>
                <a:latin typeface="Tempus Sans ITC"/>
              </a:rPr>
              <a:t>Set-top Box  -  Horizontal Marke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143000" y="2654280"/>
            <a:ext cx="51055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43000" y="3416400"/>
            <a:ext cx="5105520" cy="99036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 Software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143000" y="4559400"/>
            <a:ext cx="51055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Leve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308640" y="4711680"/>
            <a:ext cx="2759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PU, MPEG Processing (audio and video), On-Screen Graphics, I/O Hardwar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320880" y="3720960"/>
            <a:ext cx="186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rational System and 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erence Protocol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133640" y="1981080"/>
            <a:ext cx="10792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. 1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21000" y="1981080"/>
            <a:ext cx="10792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. 2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710160" y="1981080"/>
            <a:ext cx="10792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. 3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151600" y="1981080"/>
            <a:ext cx="10792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. 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767480" y="198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52280" y="762120"/>
            <a:ext cx="67057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320" y="120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00"/>
                </a:solidFill>
                <a:latin typeface="Tempus Sans ITC"/>
              </a:rPr>
              <a:t>Set-top Box  -  Block Diagra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24332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ff9900"/>
                </a:solidFill>
                <a:latin typeface="Tempus Sans ITC"/>
              </a:rPr>
              <a:t>Thank you!</a:t>
            </a:r>
            <a:endParaRPr b="0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0" y="43020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1111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ff9900"/>
                </a:solidFill>
                <a:latin typeface="Tempus Sans ITC"/>
              </a:rPr>
              <a:t>Roberto Franco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9900"/>
                </a:solidFill>
                <a:latin typeface="Tempus Sans ITC"/>
              </a:rPr>
              <a:t>Vice President - S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9900"/>
                </a:solidFill>
                <a:latin typeface="Tempus Sans ITC"/>
              </a:rPr>
              <a:t>E-mail: engenharia@rederecord.com.b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04" name="set%20novo%20sem%20nome" descr=""/>
          <p:cNvPicPr/>
          <p:nvPr/>
        </p:nvPicPr>
        <p:blipFill>
          <a:blip r:embed="rId2"/>
          <a:stretch/>
        </p:blipFill>
        <p:spPr>
          <a:xfrm>
            <a:off x="4005360" y="5478480"/>
            <a:ext cx="1100160" cy="8460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605" name="bar_anm" descr=""/>
          <p:cNvPicPr/>
          <p:nvPr/>
        </p:nvPicPr>
        <p:blipFill>
          <a:blip r:embed="rId3"/>
          <a:stretch/>
        </p:blipFill>
        <p:spPr>
          <a:xfrm flipH="1" rot="10800000">
            <a:off x="1424160" y="5049000"/>
            <a:ext cx="6286320" cy="428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646280"/>
            <a:ext cx="9144000" cy="2014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1111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ff9900"/>
                </a:solidFill>
                <a:latin typeface="Tempus Sans ITC"/>
              </a:rPr>
              <a:t>Roberto Franco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9900"/>
                </a:solidFill>
                <a:latin typeface="Tempus Sans ITC"/>
              </a:rPr>
              <a:t>Vice President - SET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7" name="bar_anm" descr=""/>
          <p:cNvPicPr/>
          <p:nvPr/>
        </p:nvPicPr>
        <p:blipFill>
          <a:blip r:embed="rId2"/>
          <a:stretch/>
        </p:blipFill>
        <p:spPr>
          <a:xfrm flipH="1" rot="10800000">
            <a:off x="1424160" y="5049000"/>
            <a:ext cx="6286320" cy="42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7672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7204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0" name="set%20novo%20sem%20nome" descr=""/>
          <p:cNvPicPr/>
          <p:nvPr/>
        </p:nvPicPr>
        <p:blipFill>
          <a:blip r:embed="rId3"/>
          <a:stretch/>
        </p:blipFill>
        <p:spPr>
          <a:xfrm>
            <a:off x="4005360" y="5497560"/>
            <a:ext cx="1100160" cy="8460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8062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r>
              <a:rPr b="1" lang="pt-BR" sz="8800" spc="-1" strike="noStrike">
                <a:solidFill>
                  <a:srgbClr val="f08f00"/>
                </a:solidFill>
                <a:latin typeface="Tempus Sans ITC"/>
              </a:rPr>
              <a:t>Digital TV:</a:t>
            </a:r>
            <a:br>
              <a:rPr sz="8800"/>
            </a:br>
            <a:r>
              <a:rPr b="1" lang="pt-BR" sz="8800" spc="-1" strike="noStrike">
                <a:solidFill>
                  <a:srgbClr val="f08f00"/>
                </a:solidFill>
                <a:latin typeface="Tempus Sans ITC"/>
              </a:rPr>
              <a:t>Our proposed   business model and why ?</a:t>
            </a:r>
            <a:br>
              <a:rPr sz="8800"/>
            </a:br>
            <a:br>
              <a:rPr sz="8800"/>
            </a:br>
            <a:endParaRPr b="1" lang="en-US" sz="88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04920" y="3638520"/>
            <a:ext cx="111744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ultimedi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hdcam" descr=""/>
          <p:cNvPicPr/>
          <p:nvPr/>
        </p:nvPicPr>
        <p:blipFill>
          <a:blip r:embed="rId2"/>
          <a:stretch/>
        </p:blipFill>
        <p:spPr>
          <a:xfrm>
            <a:off x="1332000" y="2287440"/>
            <a:ext cx="990360" cy="627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49320" y="2987640"/>
            <a:ext cx="0" cy="405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368928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87920" y="1585800"/>
            <a:ext cx="136440" cy="13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74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Future </a:t>
            </a:r>
            <a:r>
              <a:rPr b="1" lang="pt-BR" sz="4800" spc="-1" strike="noStrike">
                <a:solidFill>
                  <a:srgbClr val="ff9900"/>
                </a:solidFill>
                <a:latin typeface="Tempus Sans ITC"/>
              </a:rPr>
              <a:t>Scenario</a:t>
            </a: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 – Digital TV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762120"/>
            <a:ext cx="7086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64280" y="1077840"/>
            <a:ext cx="71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Tempus Sans ITC"/>
              </a:rPr>
              <a:t>?</a:t>
            </a:r>
            <a:endParaRPr b="0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59200" y="145080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26800" y="149400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TERRESTRIA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1665360"/>
            <a:ext cx="5760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04920" y="3638520"/>
            <a:ext cx="111744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ultimedi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hdcam" descr=""/>
          <p:cNvPicPr/>
          <p:nvPr/>
        </p:nvPicPr>
        <p:blipFill>
          <a:blip r:embed="rId2"/>
          <a:stretch/>
        </p:blipFill>
        <p:spPr>
          <a:xfrm>
            <a:off x="1332000" y="2287440"/>
            <a:ext cx="990360" cy="627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849320" y="2987640"/>
            <a:ext cx="0" cy="405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368928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82960" y="144612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87920" y="1585800"/>
            <a:ext cx="136440" cy="13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69280" y="56386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13040" y="581652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94440" y="5845320"/>
            <a:ext cx="76176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188680" y="5997600"/>
            <a:ext cx="76212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062760" y="5527800"/>
            <a:ext cx="1555560" cy="871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164280" y="1077840"/>
            <a:ext cx="71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Tempus Sans ITC"/>
              </a:rPr>
              <a:t>?</a:t>
            </a:r>
            <a:endParaRPr b="0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1665360"/>
            <a:ext cx="5760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08960" y="548640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apac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Intera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Digit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26800" y="149400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TERRESTRIA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4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Future </a:t>
            </a:r>
            <a:r>
              <a:rPr b="1" lang="pt-BR" sz="4800" spc="-1" strike="noStrike">
                <a:solidFill>
                  <a:srgbClr val="ff9900"/>
                </a:solidFill>
                <a:latin typeface="Tempus Sans ITC"/>
              </a:rPr>
              <a:t>Scenario</a:t>
            </a: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 – Digital TV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762120"/>
            <a:ext cx="7086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04920" y="3638520"/>
            <a:ext cx="111744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ultimedi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1" name="hdcam" descr=""/>
          <p:cNvPicPr/>
          <p:nvPr/>
        </p:nvPicPr>
        <p:blipFill>
          <a:blip r:embed="rId2"/>
          <a:stretch/>
        </p:blipFill>
        <p:spPr>
          <a:xfrm>
            <a:off x="1332000" y="2287440"/>
            <a:ext cx="990360" cy="627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849320" y="2987640"/>
            <a:ext cx="0" cy="405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16360" y="368928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82960" y="144612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87920" y="1585800"/>
            <a:ext cx="136440" cy="13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69280" y="56386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13040" y="581652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94440" y="5845320"/>
            <a:ext cx="76176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188680" y="5997600"/>
            <a:ext cx="76212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062760" y="5527800"/>
            <a:ext cx="1555560" cy="871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958000" y="1216080"/>
            <a:ext cx="1555560" cy="871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34120" y="1665360"/>
            <a:ext cx="5760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26800" y="149400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TERRESTRIA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4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Future </a:t>
            </a:r>
            <a:r>
              <a:rPr b="1" lang="pt-BR" sz="4800" spc="-1" strike="noStrike">
                <a:solidFill>
                  <a:srgbClr val="ff9900"/>
                </a:solidFill>
                <a:latin typeface="Tempus Sans ITC"/>
              </a:rPr>
              <a:t>Scenario</a:t>
            </a: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 – Digital TV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08960" y="548640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apac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Intera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Digit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762120"/>
            <a:ext cx="7086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04920" y="3638520"/>
            <a:ext cx="111744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ultimedi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hdcam" descr=""/>
          <p:cNvPicPr/>
          <p:nvPr/>
        </p:nvPicPr>
        <p:blipFill>
          <a:blip r:embed="rId2"/>
          <a:stretch/>
        </p:blipFill>
        <p:spPr>
          <a:xfrm>
            <a:off x="1332000" y="2287440"/>
            <a:ext cx="990360" cy="627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49320" y="2987640"/>
            <a:ext cx="0" cy="405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368928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82960" y="144612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87920" y="1585800"/>
            <a:ext cx="136440" cy="13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69280" y="56386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13040" y="581652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69280" y="28828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LECOM /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26000" y="307656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70400" y="3132000"/>
            <a:ext cx="685800" cy="8748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72200" y="3295800"/>
            <a:ext cx="6858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048360" y="277812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194440" y="5845320"/>
            <a:ext cx="76176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188680" y="5997600"/>
            <a:ext cx="76212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6062760" y="5527800"/>
            <a:ext cx="1555560" cy="871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5958000" y="1216080"/>
            <a:ext cx="1555560" cy="871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4120" y="1665360"/>
            <a:ext cx="5760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83400" y="281772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apac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Intera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hoic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26800" y="149400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TERRESTRIA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74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Future </a:t>
            </a:r>
            <a:r>
              <a:rPr b="1" lang="pt-BR" sz="4800" spc="-1" strike="noStrike">
                <a:solidFill>
                  <a:srgbClr val="ff9900"/>
                </a:solidFill>
                <a:latin typeface="Tempus Sans ITC"/>
              </a:rPr>
              <a:t>Scenario</a:t>
            </a: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 – Digital TV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08960" y="548640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apac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Intera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Digit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280" y="762120"/>
            <a:ext cx="7086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04920" y="3638520"/>
            <a:ext cx="111744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ultimedi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hdcam" descr=""/>
          <p:cNvPicPr/>
          <p:nvPr/>
        </p:nvPicPr>
        <p:blipFill>
          <a:blip r:embed="rId2"/>
          <a:stretch/>
        </p:blipFill>
        <p:spPr>
          <a:xfrm>
            <a:off x="1332000" y="2287440"/>
            <a:ext cx="990360" cy="627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49320" y="2987640"/>
            <a:ext cx="0" cy="405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16360" y="368928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82960" y="144612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87920" y="1585800"/>
            <a:ext cx="136440" cy="13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69280" y="56386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13040" y="581652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69280" y="28828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LECOM /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26000" y="307656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70400" y="3132000"/>
            <a:ext cx="685800" cy="8748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72200" y="3295800"/>
            <a:ext cx="6858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048360" y="277812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194440" y="5845320"/>
            <a:ext cx="76176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188680" y="5997600"/>
            <a:ext cx="76212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6062760" y="5527800"/>
            <a:ext cx="1555560" cy="871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H="1">
            <a:off x="5317560" y="1893960"/>
            <a:ext cx="59508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1665360"/>
            <a:ext cx="5760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5958000" y="1216080"/>
            <a:ext cx="1555560" cy="8715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826800" y="149400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TERRESTRIA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74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Future </a:t>
            </a:r>
            <a:r>
              <a:rPr b="1" lang="pt-BR" sz="4800" spc="-1" strike="noStrike">
                <a:solidFill>
                  <a:srgbClr val="ff9900"/>
                </a:solidFill>
                <a:latin typeface="Tempus Sans ITC"/>
              </a:rPr>
              <a:t>Scenario</a:t>
            </a: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 – Digital TV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08960" y="548640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apac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Intera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Digit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83400" y="281772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apac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Intera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hoic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762120"/>
            <a:ext cx="7086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WAP" descr=""/>
          <p:cNvPicPr/>
          <p:nvPr/>
        </p:nvPicPr>
        <p:blipFill>
          <a:blip r:embed="rId2"/>
          <a:stretch/>
        </p:blipFill>
        <p:spPr>
          <a:xfrm>
            <a:off x="6012000" y="4309920"/>
            <a:ext cx="1255680" cy="739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288120" y="4481640"/>
            <a:ext cx="631800" cy="366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204920" y="3638520"/>
            <a:ext cx="111744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ultimedi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7" name="hdcam" descr=""/>
          <p:cNvPicPr/>
          <p:nvPr/>
        </p:nvPicPr>
        <p:blipFill>
          <a:blip r:embed="rId4"/>
          <a:stretch/>
        </p:blipFill>
        <p:spPr>
          <a:xfrm>
            <a:off x="1332000" y="2287440"/>
            <a:ext cx="990360" cy="627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49320" y="2987640"/>
            <a:ext cx="0" cy="405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16360" y="368928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82960" y="144612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87920" y="1585800"/>
            <a:ext cx="136440" cy="13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69280" y="56386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13040" y="581652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69280" y="28828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LECOM /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26000" y="307656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70400" y="3132000"/>
            <a:ext cx="685800" cy="8748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72200" y="3295800"/>
            <a:ext cx="6858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048360" y="277812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821040" y="444672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ELLULA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62480" y="4603680"/>
            <a:ext cx="644760" cy="745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14920" y="4567320"/>
            <a:ext cx="136440" cy="136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94440" y="5845320"/>
            <a:ext cx="76176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188680" y="5997600"/>
            <a:ext cx="76212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257800" y="4756320"/>
            <a:ext cx="644400" cy="745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6062760" y="5527800"/>
            <a:ext cx="1555560" cy="8715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flipH="1">
            <a:off x="5317560" y="1893960"/>
            <a:ext cx="59508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4120" y="1665360"/>
            <a:ext cx="5760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5958000" y="1216080"/>
            <a:ext cx="1555560" cy="8715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670160" y="4433760"/>
            <a:ext cx="120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Mobil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26800" y="149400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TERRESTRIA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74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Future </a:t>
            </a:r>
            <a:r>
              <a:rPr b="1" lang="pt-BR" sz="4800" spc="-1" strike="noStrike">
                <a:solidFill>
                  <a:srgbClr val="ff9900"/>
                </a:solidFill>
                <a:latin typeface="Tempus Sans ITC"/>
              </a:rPr>
              <a:t>Scenario</a:t>
            </a: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 – Digital TV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08960" y="548640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apac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Intera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Digit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83400" y="281772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apac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Intera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hoic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762120"/>
            <a:ext cx="7086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8T13:58:14Z</dcterms:created>
  <dc:creator>Jeanete Abreu Marques</dc:creator>
  <dc:description>Modificado por Cristiane Zakimi Correia Pinto / Rede Record.</dc:description>
  <dc:language>en-US</dc:language>
  <cp:lastModifiedBy>ANATEL</cp:lastModifiedBy>
  <cp:lastPrinted>2001-05-28T20:30:47Z</cp:lastPrinted>
  <dcterms:modified xsi:type="dcterms:W3CDTF">2001-05-30T15:03:30Z</dcterms:modified>
  <cp:revision>633</cp:revision>
  <dc:subject/>
  <dc:title>Seminario Multimidia</dc:title>
</cp:coreProperties>
</file>